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6953"/>
        <c:axId val="43753514"/>
      </c:barChart>
      <c:catAx>
        <c:axId val="7286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53514"/>
        <c:crosses val="autoZero"/>
        <c:auto val="1"/>
        <c:lblAlgn val="ctr"/>
        <c:lblOffset val="100"/>
        <c:noMultiLvlLbl val="0"/>
      </c:catAx>
      <c:valAx>
        <c:axId val="43753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6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162-B2F2-4298-B68B-F3214CB8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C6C-AD20-462F-8D2F-5086128D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196-1909-4208-B873-DFC3ADDF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2E8-FC68-44EE-A852-CA2601F4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C54-3049-4F27-9B52-0C5B3186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904-2B22-4444-A720-33F0B320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8C0-80BD-4FD1-B000-46113ED4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676-BA24-40AD-851A-F84216ED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8EE-3231-4CA8-9342-5EFBA38F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4EC5-E304-4F24-877E-B6A263B8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682-21F7-4A81-A46B-96DA2F88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4E2-68B4-4A79-878C-53FBA9EC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B2CF6-820D-414D-8AA5-577D1D1A6D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