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84794"/>
        <c:axId val="91376358"/>
      </c:barChart>
      <c:catAx>
        <c:axId val="32784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6358"/>
        <c:crosses val="autoZero"/>
        <c:auto val="1"/>
        <c:lblAlgn val="ctr"/>
        <c:lblOffset val="100"/>
        <c:noMultiLvlLbl val="0"/>
      </c:catAx>
      <c:valAx>
        <c:axId val="91376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84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21B-8C41-477D-A647-F58C0EA8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03F-A0F5-4F86-94BA-6243707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303-7CD9-4931-9E5E-6C84D884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13E-8838-4ED4-AF07-ADBFFCD9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2B2-6368-40AB-98D1-036F9CF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F99-5DE3-45DD-8234-1A7D9895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340-8376-434D-86B7-A65ED574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528-51E3-481E-8BEE-A634E520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484-A485-4346-B574-1F543564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B27-A140-45A2-B89A-E4D76B5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D03-906D-46AB-8409-18D6345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EE9-369E-4C6B-AF94-235C90E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0DC27-9988-4C7F-8F7B-2ED6DCAA5B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