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51683"/>
        <c:axId val="22622833"/>
      </c:barChart>
      <c:catAx>
        <c:axId val="39451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22833"/>
        <c:crosses val="autoZero"/>
        <c:auto val="1"/>
        <c:lblAlgn val="ctr"/>
        <c:lblOffset val="100"/>
        <c:noMultiLvlLbl val="0"/>
      </c:catAx>
      <c:valAx>
        <c:axId val="22622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51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2D6-F13C-4176-8E01-15167BDA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752-F4E5-46E7-A69B-356FF083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322-278B-40F2-ABCD-5BA5D0AE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D4D-8B13-486A-806E-5D29BB5F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52B-F51F-4B32-B36F-5B40EA85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5563-61C8-42E9-8BC4-9B328195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059-2E63-4EBF-BCC6-4F953D4A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0CD-9E3C-49C1-945D-BB7E23EF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97D3-FB56-4251-A043-358C7F9A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313-1056-45E4-89E2-42179946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649-A324-4CFB-898C-02273D6E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FBBC-59BF-460F-ABB7-7246FBAE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849D0-5F70-4C0D-A884-43CDED8AF4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