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A49DA8-13D1-4B9C-9134-A48F401107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C24E09-638C-45EB-A897-2CC7E3C08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C095F62-09F9-4C24-960F-47888445F0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F34496A-F64A-49DF-9362-DC310097B6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A68DB69-817E-40C7-A06B-8F5C81BD9A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DF9B4EA-B4CF-4F0B-8611-04AA18DBBA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104C4EE-0406-4E54-939D-FF60AD37BC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6AEE4E-2345-400E-9483-C08D028EBD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3AB29BE-DB7D-4EB0-BBAC-AC230F21652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AC2F820-2184-4E4A-AA6C-7C86179CAAB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40A5FE-9E3A-48E0-A368-F16653E053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4E3CE4B-3B62-4B6E-A936-EB2E134A68E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74B70BB-F716-4B09-9D21-3825A1EFE42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16E7C02-BFF4-4F9A-AE2A-5634CEA9BB5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BBF7940-E59C-47C0-8B96-21A661B59AA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754FFE7-35FC-4338-87F1-92D458EBF77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B88E42D-0C0F-4275-AE61-127E77A9F41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C2474F-E576-4287-8B5C-2459276F208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98784A-4FE4-4A13-B974-48F6F28EB2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EC256E-F96F-4275-ADDE-4D30D42ADB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1E77E-A584-4EC1-A79F-9B66DD3BFF8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F81472-5B7D-4755-9B29-69EE399F2B4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9A3695-11E7-4712-8E74-11A92BF9C6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7C9810B-0F4B-496E-8C80-C95A3755A09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8D14B6-2EEB-453F-A942-45E090459D2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10F9-30D1-488A-96AD-B3AAB7EF812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714D4110-47B1-4843-8EAB-BD5FA210A90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07C4822-9582-4DB5-9C1A-4BE5C565FE29}"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6D7C25-BBA7-453B-9E96-D38620F9715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D89126-1E48-4F27-B399-4156494A25B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246EF4-B06F-40EB-A0FD-E9A8160963A2}"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12707B-F30A-4FF5-A061-7ECFAA7F120C}"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A2E8D3-0E54-473D-887F-D70646D04B9C}"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FB205D-7A3D-4D5C-8E1F-3DB1F50FDC5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E4F0BD-D4ED-47F6-AC59-8544061DA123}"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8B0553-8A36-4682-B6F2-4810CE7BD91D}"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289B88-EA93-4930-A041-2681A42434F6}"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43EF1-CFA8-4377-A7C9-00E5437B2D7B}"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4BA649-7571-4708-BE08-C6A5F8AF1459}"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4C4E4A-CF4C-486F-8A7E-19B68E6A9986}"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C6C4-F717-42D9-A53A-E8B9DB4D438C}"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01E7AA-BCF8-421D-8EDC-AB913FAAB66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9E0A39-788A-4FAB-98C3-7BA89100F53A}"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702D34-C547-44E2-89AC-8A0882D2D773}"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7E1834-8436-4950-BC17-63EEF074896A}"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4FC173-F6AD-4E39-AE9C-90D0A8D6D1C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C8DD-3A61-4192-B67C-260D8EDC45D0}"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6A0DCA-E8DB-44FC-A444-8C106E43953D}"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37BA03-797D-4CA2-8848-ECE8B57F7713}"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1BA6D1-1CD4-4A05-A894-9825D8CA4C37}"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9F78DB-AEBF-497B-884A-64470A6489D0}"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61E0B5-0DCF-4F70-8173-821809A257EE}"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18F2BD-6F89-41A3-B2E8-4ECAE3A2B45D}"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EF66506-D856-4ABE-9E9A-0D9012814CD1}"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18F110-14D7-4972-B054-C849B3413CCD}"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AA628E-1D48-46B0-82FD-EBFDADDC25B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63214-537C-48D1-ADD4-8C8F09324407}"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3FA4D9-63DE-4A3A-9357-B4AA4CF68CC3}"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ED924F-F633-4105-B16B-B4735E5F9F15}"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E0D05A-F337-49BA-ABC1-1A362408813F}"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CC6F9-32F5-4949-91E6-9D084D6C3556}"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446921-4D02-4518-AA5A-7E98B6F83571}"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9D7E35-FB38-49F9-8ACE-E0F7DD85A24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373369-87AB-49C7-B42C-15A6D75EB3B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B37CE-9022-4483-BD61-B5DCE0B5373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4CC137-BF3D-402D-9A79-C8CC965B0E99}"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EC6C1-010D-465C-A231-67662FD95CD8}"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3EEDC-BBA6-4E87-8A30-42C4A08FE7C2}"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D9E19-9203-41F9-BDED-5359108C0762}"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22A15B-F75F-4180-9DBF-5E6F6BBF8A12}"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DE599E-6597-47E0-9284-969654A82DCA}"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575D1-8102-4D9C-8C11-7AB4C8F467DA}"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F6FE0B-DB49-4DB7-8845-92C8D6AEEAE7}"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B34180-ED8B-4319-A562-528420835343}"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80802E6-06A8-48DA-ADBF-80643039534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C57C2-3F79-47DA-B55B-A8FB9C5922B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218B87-7567-42A3-816B-84A10462E895}"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56A0944-74A5-4242-A67C-9869D7DD7388}"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45BDD4-ADF7-4468-827D-82E825D2ABAF}"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EB7926-E887-4BE9-9A51-02785DBAE4A4}"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1B5E60-BC59-4E2B-8644-79F0C5917C0A}"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0587C8-E89B-4309-8F11-485B4FC5C09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F1058-2C6F-4408-B113-15FCFF4E410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F90A94-D33D-4DA6-9808-C871A8A5052C}"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561137-2175-4846-82F5-5B0E2352EDA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781FB4B-DE28-4123-97A4-1173096AC8EB}"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FA2F9A-D049-4E9E-9E6D-B4AF4FE9139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7B944-9A8A-4E64-842D-F3576D0CC4A9}"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229D80-56F8-490C-9A65-D298E76C1B37}"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0EDA6C-4AD8-494A-996B-139E2E9DE1A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6C24A4-CA74-444A-8F1F-017921D9A789}"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EBC49D3-00DF-4F16-B2E3-516447039801}"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4E136C-0254-4081-B054-4CEAA319F3A4}"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7D4BAE-28B6-48B7-964D-F3482D718927}"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8ED25-35DD-4C19-A4F5-74F355FD1E5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487BCF-3763-4427-8A76-4E9A98B293F9}"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124D4510-9E51-4A3B-8E86-D457B001F172}"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311649-5516-4EB2-BBD0-535EF0BD9590}"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26D1D-E648-438E-9FF3-6B012E35E0B0}"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A41597-D220-44C4-8BF7-1C6F80E38C68}"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11CDF-DB38-4BEA-83EB-E3177B9DC90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085E6-0925-4533-A7A2-6380CD07FEE0}"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CC880B-8FB1-435C-955F-1D7A4BA836AF}"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F992542-FA3E-4800-B607-4888AEE3248B}"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BD022-18DB-4E1F-B592-B67B081EA4B4}"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E71FD6-492D-4A7D-89B7-59DD1C2D00D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CF2681-C155-46BF-8898-D076B5716F79}"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E6C18C7-2E45-415D-A0EF-323BF251ACFB}"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602D2A-2B50-49CC-A88B-525DA4236B6A}"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1B59F-F589-4F1D-8754-41E6FE7E69E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9C33E-FC5E-4E1B-9D1D-FE7F92974FB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170293-5574-4D9D-8843-962C305A3FBC}"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67559F-F6CF-46BD-A21C-4175CA9D5D53}"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65E31C-39CB-445A-99E8-23DF6F1A5192}"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EC8D2-EFD0-4880-A4F2-B9BFD78BC1D9}"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7E098-756B-4FF2-A843-F218DEF30974}"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AB8AF-C5AF-4C6E-8876-90C0E766D170}"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160B48-1A31-4CF2-A467-55DC1FEA6837}"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38918D-B3E0-4E41-A408-887079CF726F}"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37210B-8A4C-4893-B37D-92DF4AFFADBF}"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E4B225-3668-4FF4-B15D-7468AA18797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B3CCB-7B51-4294-964F-198EFE16962B}"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00A9A0-7FE0-4E75-8165-FB36F27FD6F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73EF84-3B25-4CB8-961D-C4F9F05B4CE2}"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411440-17B7-49B5-8461-435415C4114B}"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5B4E903-7C4A-4A0F-858E-07267A9F4AB3}"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4D3D5-E63C-43B1-A4CF-E5450B6D6C33}"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54FFA1-92AF-467E-93CE-68B49A002A7E}"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0C47E0-DEF6-4EB3-866F-E03E9C21FBBB}"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CF020-FE0D-45C4-A29F-27D1031D0BC3}"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28531D-EAB0-4BC6-8426-76AAB498D371}"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856C4-033D-4BB7-95D8-23528FA6AEF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01B7D8-5652-4F50-9720-8F5E15FCEB0F}"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4DA958-2219-43F7-B5CB-BD816789106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69D54A-AB3F-4D20-8AC1-CC26BD6034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D0CA1-7E65-41A6-BEF3-E95634D67051}"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2295E1-22D4-49E6-92F1-2C56E0724FA9}"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D3F520-9DBC-4920-8584-CA1268225C5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233D79-5144-4915-90EF-7488064F72A0}"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AAAAF6-68BF-4D7C-83D1-0972A9EDCF8A}"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255BCD-090F-4816-B179-85AF34EF1732}"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8E6737-EDEA-478D-A318-89AA004A9247}"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C77E6-1674-44B6-AC79-72E3D40FC680}"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0AC1E9-FD72-40DC-9C0A-C2EF542D89B6}"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980290-3E50-46D4-940E-FE1287EF103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7CC827-AD17-47C8-97D8-3D72C659DD45}"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94DD8B-86DC-4A9B-9B6D-C09C1BA4E36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8DA374-3B23-4A21-A599-2A7E2716501C}"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1128E0-9907-4E7E-A81E-0E663563E4DA}"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F21201-6300-4B5A-AF1E-729C77F69FCD}"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8FBED-8580-4A65-99F9-5052E02F4459}"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D42A9B-1D7B-4CA2-8A64-FAC9DB7ACD78}"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28A828-6A0F-464B-931C-524805E7AF44}"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F671DA0-F7F8-45C7-9961-7906ABFB6525}"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65D3C-84AF-4684-A0E5-32F0ED62A4E2}"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418390-01C6-4932-8383-1308F35EEF0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BC3122-D0EE-44F9-B09D-9BA1CCC4D874}"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D8D891-B8D2-4983-B64E-C1F1BCB73A1D}"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4DADAC-2E1C-448D-8CFA-BC784A89620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3AAAF4-98B5-43C9-BC4E-867ACF586304}"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A97B23D-CDF0-4EAA-9DF6-C52C25B47F2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88C762-D2D7-4E70-AAD1-51EF21621A8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C996E2-2E4E-4B91-A9F4-24184EA324F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C4F023-EFB9-434E-9ABD-14C676EC1CB4}"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7A9EB2-9A3B-4795-82BD-A4214EFBED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CCC26E-5CF1-4710-B373-EDB6F784AB83}"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000937-AF10-419F-92EB-745D5F79CC64}"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94DEF9-187B-46D0-A9FC-4BAFB739214A}"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40AD981-6D2C-4F49-B104-27EE69F1DBC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31DAE9-B028-4BE3-BE3F-4A00B6529CDD}"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0D4CB-503F-44A5-9565-938CB3B80B0E}"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750419-796B-4E44-9A5A-0EAB237D9D84}"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D701D-22D2-4F11-A47E-9A93FEEF7204}"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CC257A-D086-4549-BF12-121D52B78C9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F2D31D-E9BB-4964-9A48-663859FB572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18D7C-0857-4210-851F-3787FAC2232A}"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0B802-55AD-4A6F-84FC-A3F0D0DCD933}"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CAA54-B8D5-4B5D-965C-36F90972A89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7D6DE7-164A-4D47-B0AE-A48C5AE7CB2E}"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F93276-6CFC-4C82-9D64-B5C763C583F8}"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53E75E-BEF5-4466-9345-8D27A00672F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9BE83F-CF64-4C0A-BD3C-A5CB5BEF4EC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253B14-1B6B-4CAC-9EE7-ED4A3579D8E6}"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DA9AE4-D93D-4B0A-8F8D-A733DB9389B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FF9FF-1A77-4082-AE99-CCC8584E20B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965CC1-D09A-4ABD-94A2-6EB7652B9750}"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73EA74-0DAD-4D93-82EF-3D7C982FD44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EE8C9-4C5E-4C1C-9108-82E3900259FF}"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C764-A7A8-4AF2-A4EC-24A9991F3BA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2866B0-E17C-40D8-B202-8A9219EB8FA8}"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10D90-6686-4E41-8A61-9884EAE9DA2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A9FC2A-8FCC-488F-984C-6FC2EF68AA97}"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C965C5-A8C3-4867-9FE5-53A1471BCCA7}"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37F46-65FB-4CBE-9A2E-8E4961CA7E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E76CCD-7B25-4BD3-9A8B-758E6CFBDB57}"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D45AA-28C6-4FB3-A3C5-F740226DBD5C}"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0CEF73-35F1-4CBC-956F-5B01161992D0}"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FF2BF8-DB1E-4050-859B-5749887DC96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387784-1C61-4454-A5BE-232B635A6B73}"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F5CC1C-3EBB-4730-809B-7C61C8774F53}"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5D5E7E-5FB3-4B0B-BBFE-924644B8A9DE}"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2F4EB02-207B-4E33-BA07-541AA1DA0DA3}"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F7267-01AB-4B73-BF3E-913446831429}"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692760-91B0-459D-84AF-D6BFA08CD81B}"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3A6754-9FE8-402F-B5AE-698E8D5AB15A}"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5BABF7-469C-4E44-9DBE-68AA831279D0}"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4BB87-FED2-4E3A-B87E-C4A6304E1E9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FE7501-6E8E-47D6-980A-375958CF82C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E115E9-4AD6-4F56-8479-1121FFF958D4}"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B3D139-845B-469C-A718-2295A0FE812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BC81F49-6E78-4CDF-934B-177959E4CD3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BC269B-C720-47DB-A227-0BD2A866479F}"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B19814-7E09-4E67-BAFF-2A8180FF218D}"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C29454-43A9-4BF1-BEDF-664E04B9D261}"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DDD6B-5307-400B-BAA9-E75D041CF3D9}"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38B2BE-31B8-4130-8CDE-88366BBB65F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9A3D0-CC03-4CA1-B700-D12A0CC81823}"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108475-5291-4766-9FE4-1463217B2395}"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788FC6-6EE4-4B00-BAD9-8C5F2B288839}"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19614E-0756-4E82-A6DB-D4A3E87A139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3067C-759E-4C90-A6A0-6CC8099BCAEA}"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B8EEA7-340A-46D7-A25A-AE16193586D0}"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E65691-B3E8-4DAA-8243-3A68A64097FF}"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AEA21D-B4B0-4037-9127-D084EB35CC48}"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F84D53-4B41-4A09-9825-D7997FF7BFB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D268853-B768-46EF-A0B6-1E59F00848B9}"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F01FCE-61C9-421E-94AD-D1080D550870}"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11B466-1486-48E4-954E-A8F6D2A13160}"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631F58-470C-4AAE-A9AD-2DD209CA1DD5}"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7CD546A-7305-4944-B152-E8DD15E239D7}"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A0E7F-5E10-419F-B12F-68A66B33964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B4BD35-3413-440E-8991-BC9CFA609A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42B25-7FF9-4086-BCC6-8A0F5D7ED5A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9A3418-C65C-4603-9EE4-8DE2D5BC449C}"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891BC2-743A-4F98-9DEA-C1650A5A02F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25363-97DB-4222-8040-65246A5C1C11}"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B5BC87-EF3A-4421-AE33-4E524A7B1484}"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266D63-DD01-408E-ADC6-776AA283FF2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25AAE4-83E8-4FC6-9CBD-9741BDCE552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