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B023-A7EF-4BAC-AB52-65C8E5D27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98B7-5F92-4634-9A36-5B6B5A55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09ED-F6BD-423C-BD55-62828FEE0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B15D-3368-4521-A70D-EF5E651A9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8B12-F3EC-4E3B-92E2-DFE8DA86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339F-86F9-4510-8E1C-8B2A3358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BDAF-773B-4A8A-B347-464E49E1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2FEF-B83A-4A6F-8B68-F99F273A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193D-7153-4C6B-81AF-98308CB0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E60E-48BF-4A71-88B6-3F575678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3903-B33A-423D-857D-810278B6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B5FD-33CE-4E08-A892-24820B53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40D0-CE24-4B8B-8688-04339DB49C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03T11:39:29Z</dcterms:created>
  <dc:creator/>
  <dc:description/>
  <dc:language>en-US</dc:language>
  <cp:lastModifiedBy>xiaocong</cp:lastModifiedBy>
  <dcterms:modified xsi:type="dcterms:W3CDTF">2020-01-03T11:39:2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1.0.9061</vt:lpwstr>
  </property>
</Properties>
</file>