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57C4-DDB3-473F-8755-3052FC01932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CC60-8EEC-4E2C-8AB0-D436B8A0EF0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の正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内部では何が起こっているのか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4436640"/>
            <a:ext cx="388152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東京初台 シモモトビ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株式会社グルージェン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栗原 傑享（まさた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ttp://www.gluegen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03640" y="5661000"/>
            <a:ext cx="14004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に追加された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リストに保存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中で出現順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リストに追加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の先頭から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調べ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名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指示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正規表現パターンのマッチを取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マッチ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コ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が尽きるとコンポーネントメソッドを実行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から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今度は実行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を逆順に実行してい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ーケン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135480" cy="5592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2521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Component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後に、コンポーネントのメソッド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呼び出しをインターセプト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最初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取得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自分を引数に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#invoke(Joinpoint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呼ば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前後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あれば取得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無くなればコンポーネントメソッドを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のコールスタックをさかのぼるように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-config.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: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5734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4508640"/>
            <a:ext cx="6623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Advice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2997360"/>
            <a:ext cx="6624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3789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種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実は必要なか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多くのパター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あ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にかく易し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実装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新しい概念のために、必勝パターンが確立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作ればいいの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に依存する部分を集め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外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なメソッド実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オブジェクト同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同期実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1052640"/>
            <a:ext cx="758664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SpeakerImp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extension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Script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sample-script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4365720"/>
            <a:ext cx="5497560" cy="18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crip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joinpoi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y"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languag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hino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bindin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bind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hello " + 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5950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scrip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スクリプト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2997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外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ファイル参照をして、メソッド実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35002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スクリプトエンジン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PI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隠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例外処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2920" y="1268280"/>
            <a:ext cx="792180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xceptionHandle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//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ハンドラへのアクセッサ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ireExceptionHandler(Joinpoint joinpoint, 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andler.size() == 0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 fals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for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Iterator it = handlers.iterator(); it.hasNext();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ceptionHandler handler = (ExceptionHandler)it.n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andler.handleException(joinpoint, e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u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ret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ull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 = 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!fireExceptionHandler(joinpoint, e)) {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55753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例外発生時、イベントハンドラを発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4292640"/>
            <a:ext cx="432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ry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で保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オブジェクト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47640" y="1844640"/>
            <a:ext cx="70866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yncObject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target = joinpoint.getTar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synchronize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arge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.proceed(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nchronized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によってコンポーネントへのマルチスレッドアクセスを排他し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非同期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76320" y="1125360"/>
            <a:ext cx="679932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Call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 joinpoi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joinpoint =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hrowable ignor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Runner runner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 thread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ead(run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oolean.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61657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rea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返値と例外をコールバックする等の工夫の余地あ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何かご質問はございます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 &amp;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rg.seasar.framework.aop.Around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コンテナ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ソッドの引数を通してアクセスする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呼び出し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子要素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しく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たるコンポーネントのメソッド名を列挙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org/seasar/shellscript/sample-config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で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登場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内部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onen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スペク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おい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実装するインターフェイ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バイトコードエンジニアリング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27280" y="3213000"/>
            <a:ext cx="6192720" cy="31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Container - Aop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3645000"/>
            <a:ext cx="194616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3645000"/>
            <a:ext cx="338472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関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＆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成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コンポーネントメソッドをリフレクション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429264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429264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556272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367640" y="4688280"/>
            <a:ext cx="2592360" cy="505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558972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50864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573408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716360" y="4653000"/>
            <a:ext cx="1728720" cy="100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4724280"/>
            <a:ext cx="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48000" y="4941720"/>
            <a:ext cx="1440000" cy="43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3213000"/>
            <a:ext cx="165564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450864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5805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5759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41440" y="2565360"/>
            <a:ext cx="655164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roundAdvic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Joinpoint joinpoint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joinpoint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72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72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09T07:13:18Z</dcterms:modified>
  <cp:revision>38</cp:revision>
  <dc:subject/>
  <dc:title>スライド 1</dc:title>
</cp:coreProperties>
</file>