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15138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115920"/>
            <a:ext cx="2916360" cy="120312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4643280" y="6597720"/>
            <a:ext cx="41198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619280" y="907920"/>
            <a:ext cx="752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643280" y="6597720"/>
            <a:ext cx="4500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5BB70-AEE0-4DAA-B7AF-E329C387D71A}" type="slidenum">
              <a:rPr b="1" lang="ja-JP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50920" y="1147680"/>
            <a:ext cx="4124160" cy="17049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340000" y="2349360"/>
            <a:ext cx="680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43280" y="6597720"/>
            <a:ext cx="41198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43280" y="6597720"/>
            <a:ext cx="4500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EF58F-C091-4762-80E5-8FB494CF612F}" type="slidenum">
              <a:rPr b="1" lang="ja-JP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はじめての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Seasar2</a:t>
            </a:r>
            <a:br>
              <a:rPr sz="4400"/>
            </a:b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コンテナ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+AOP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超入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3995280" y="5589360"/>
            <a:ext cx="496116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2004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ug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どんな風に使うの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を行うのはコンポーネント単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全てのオブジェクトというわけではな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コンポーネントの内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ごく普通の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Java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オブジェク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テナを呼び出さな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他コンポーネントは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interfac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だけ知ってい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コンポーネントという形にまとめるに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業務、システムという観点の単一機能で考え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使われる場所が一カ所でも構わな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使う側の視点で考え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693760" y="2981160"/>
            <a:ext cx="34369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POJO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Plain Old Java Object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091560" y="5987880"/>
            <a:ext cx="21618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役割を明確にするために作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826920" y="3284640"/>
            <a:ext cx="2016360" cy="86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5050"/>
                </a:solidFill>
                <a:uFillTx/>
                <a:latin typeface="Arial"/>
              </a:rPr>
              <a:t>依存関係</a:t>
            </a:r>
            <a:r>
              <a:rPr b="0" lang="ja-JP" sz="3200" spc="-1" strike="noStrike" u="sng">
                <a:solidFill>
                  <a:srgbClr val="ff5050"/>
                </a:solidFill>
                <a:uFillTx/>
                <a:latin typeface="Arial"/>
              </a:rPr>
              <a:t>反転</a:t>
            </a:r>
            <a:r>
              <a:rPr b="0" lang="en-US" sz="3200" spc="-1" strike="noStrike" u="sng">
                <a:solidFill>
                  <a:srgbClr val="ff5050"/>
                </a:solidFill>
                <a:uFillTx/>
                <a:latin typeface="Arial"/>
              </a:rPr>
              <a:t>原則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に則って考え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上層も下層も抽象にのみ依存するべ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抽象が詳細に依存してはならない、という原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依存関係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反転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原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042920" y="3500280"/>
            <a:ext cx="576360" cy="433440"/>
          </a:xfrm>
          <a:prstGeom prst="rect">
            <a:avLst/>
          </a:prstGeom>
          <a:solidFill>
            <a:srgbClr val="b3e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050920" y="3502080"/>
            <a:ext cx="57636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122560" y="3573360"/>
            <a:ext cx="431640" cy="3603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6" name=""/>
          <p:cNvCxnSpPr>
            <a:stCxn id="183" idx="3"/>
            <a:endCxn id="184" idx="1"/>
          </p:cNvCxnSpPr>
          <p:nvPr/>
        </p:nvCxnSpPr>
        <p:spPr>
          <a:xfrm>
            <a:off x="1618920" y="3717720"/>
            <a:ext cx="432360" cy="1080"/>
          </a:xfrm>
          <a:prstGeom prst="curvedConnector2">
            <a:avLst/>
          </a:prstGeom>
          <a:ln w="19080">
            <a:solidFill>
              <a:srgbClr val="000000"/>
            </a:solidFill>
            <a:prstDash val="dash"/>
            <a:miter/>
            <a:tailEnd len="lg" type="arrow" w="lg"/>
          </a:ln>
        </p:spPr>
      </p:cxnSp>
      <p:sp>
        <p:nvSpPr>
          <p:cNvPr id="187" name=""/>
          <p:cNvSpPr/>
          <p:nvPr/>
        </p:nvSpPr>
        <p:spPr>
          <a:xfrm>
            <a:off x="4788000" y="3429000"/>
            <a:ext cx="3887640" cy="28796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19640" y="3932280"/>
            <a:ext cx="1152720" cy="865080"/>
          </a:xfrm>
          <a:prstGeom prst="rect">
            <a:avLst/>
          </a:prstGeom>
          <a:solidFill>
            <a:srgbClr val="b3e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5580000" y="4076640"/>
            <a:ext cx="576000" cy="433440"/>
            <a:chOff x="5580000" y="4076640"/>
            <a:chExt cx="576000" cy="433440"/>
          </a:xfrm>
        </p:grpSpPr>
        <p:sp>
          <p:nvSpPr>
            <p:cNvPr id="190" name=""/>
            <p:cNvSpPr/>
            <p:nvPr/>
          </p:nvSpPr>
          <p:spPr>
            <a:xfrm>
              <a:off x="5580000" y="4076640"/>
              <a:ext cx="57600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651280" y="4149720"/>
              <a:ext cx="432000" cy="36036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"/>
          <p:cNvSpPr/>
          <p:nvPr/>
        </p:nvSpPr>
        <p:spPr>
          <a:xfrm>
            <a:off x="6948360" y="4149720"/>
            <a:ext cx="720720" cy="649440"/>
          </a:xfrm>
          <a:prstGeom prst="rect">
            <a:avLst/>
          </a:prstGeom>
          <a:solidFill>
            <a:srgbClr val="b3e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3" name=""/>
          <p:cNvCxnSpPr>
            <a:stCxn id="192" idx="1"/>
            <a:endCxn id="190" idx="3"/>
          </p:cNvCxnSpPr>
          <p:nvPr/>
        </p:nvCxnSpPr>
        <p:spPr>
          <a:xfrm rot="10800000">
            <a:off x="6155640" y="4291920"/>
            <a:ext cx="792720" cy="183240"/>
          </a:xfrm>
          <a:prstGeom prst="curvedConnector5">
            <a:avLst>
              <a:gd name="adj1" fmla="val 50068"/>
              <a:gd name="adj2" fmla="val 50000"/>
              <a:gd name="adj3" fmla="val 50068"/>
            </a:avLst>
          </a:prstGeom>
          <a:ln w="19080">
            <a:solidFill>
              <a:srgbClr val="333399"/>
            </a:solidFill>
            <a:miter/>
            <a:tailEnd len="lg" type="stealth" w="lg"/>
          </a:ln>
        </p:spPr>
      </p:cxnSp>
      <p:sp>
        <p:nvSpPr>
          <p:cNvPr id="194" name=""/>
          <p:cNvSpPr/>
          <p:nvPr/>
        </p:nvSpPr>
        <p:spPr>
          <a:xfrm>
            <a:off x="1835280" y="4363920"/>
            <a:ext cx="2016000" cy="865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050920" y="4579920"/>
            <a:ext cx="576360" cy="433440"/>
          </a:xfrm>
          <a:prstGeom prst="rect">
            <a:avLst/>
          </a:prstGeom>
          <a:solidFill>
            <a:srgbClr val="b3e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3059280" y="4581360"/>
            <a:ext cx="576000" cy="431640"/>
            <a:chOff x="3059280" y="4581360"/>
            <a:chExt cx="576000" cy="431640"/>
          </a:xfrm>
        </p:grpSpPr>
        <p:sp>
          <p:nvSpPr>
            <p:cNvPr id="197" name=""/>
            <p:cNvSpPr/>
            <p:nvPr/>
          </p:nvSpPr>
          <p:spPr>
            <a:xfrm>
              <a:off x="3059280" y="4581360"/>
              <a:ext cx="576000" cy="430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130560" y="4654080"/>
              <a:ext cx="432000" cy="3589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99" name=""/>
          <p:cNvCxnSpPr>
            <a:stCxn id="195" idx="3"/>
            <a:endCxn id="197" idx="1"/>
          </p:cNvCxnSpPr>
          <p:nvPr/>
        </p:nvCxnSpPr>
        <p:spPr>
          <a:xfrm>
            <a:off x="2627280" y="4797000"/>
            <a:ext cx="432720" cy="1080"/>
          </a:xfrm>
          <a:prstGeom prst="curvedConnector2">
            <a:avLst/>
          </a:prstGeom>
          <a:ln w="19080">
            <a:solidFill>
              <a:srgbClr val="000000"/>
            </a:solidFill>
            <a:prstDash val="dash"/>
            <a:miter/>
            <a:tailEnd len="lg" type="arrow" w="lg"/>
          </a:ln>
        </p:spPr>
      </p:cxnSp>
      <p:sp>
        <p:nvSpPr>
          <p:cNvPr id="200" name=""/>
          <p:cNvSpPr/>
          <p:nvPr/>
        </p:nvSpPr>
        <p:spPr>
          <a:xfrm>
            <a:off x="2843280" y="5445000"/>
            <a:ext cx="1008000" cy="865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059280" y="5661000"/>
            <a:ext cx="576000" cy="433440"/>
          </a:xfrm>
          <a:prstGeom prst="rect">
            <a:avLst/>
          </a:prstGeom>
          <a:solidFill>
            <a:srgbClr val="b3e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195640" y="3930480"/>
            <a:ext cx="285480" cy="1461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203640" y="5011560"/>
            <a:ext cx="285840" cy="1461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4" name=""/>
          <p:cNvCxnSpPr>
            <a:stCxn id="202" idx="3"/>
            <a:endCxn id="195" idx="0"/>
          </p:cNvCxnSpPr>
          <p:nvPr/>
        </p:nvCxnSpPr>
        <p:spPr>
          <a:xfrm>
            <a:off x="2338560" y="4076640"/>
            <a:ext cx="2160" cy="50400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205" name=""/>
          <p:cNvCxnSpPr>
            <a:stCxn id="203" idx="3"/>
            <a:endCxn id="201" idx="0"/>
          </p:cNvCxnSpPr>
          <p:nvPr/>
        </p:nvCxnSpPr>
        <p:spPr>
          <a:xfrm>
            <a:off x="3346560" y="5157720"/>
            <a:ext cx="2160" cy="50400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206" name=""/>
          <p:cNvSpPr/>
          <p:nvPr/>
        </p:nvSpPr>
        <p:spPr>
          <a:xfrm flipV="1">
            <a:off x="1476360" y="4437000"/>
            <a:ext cx="0" cy="172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258920" y="4437000"/>
            <a:ext cx="0" cy="1730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619280" y="5445000"/>
            <a:ext cx="637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依存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方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78080" y="4579920"/>
            <a:ext cx="637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利用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方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680800" y="3500280"/>
            <a:ext cx="216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受け口にセットするイメー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083280" y="5373720"/>
            <a:ext cx="1152720" cy="865080"/>
          </a:xfrm>
          <a:prstGeom prst="rect">
            <a:avLst/>
          </a:prstGeom>
          <a:solidFill>
            <a:srgbClr val="b3e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443640" y="5516640"/>
            <a:ext cx="57636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15280" y="5589720"/>
            <a:ext cx="431640" cy="360360"/>
          </a:xfrm>
          <a:prstGeom prst="rect">
            <a:avLst/>
          </a:prstGeom>
          <a:solidFill>
            <a:srgbClr val="b3e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300720" y="4869000"/>
            <a:ext cx="792360" cy="431640"/>
          </a:xfrm>
          <a:prstGeom prst="downArrow">
            <a:avLst>
              <a:gd name="adj1" fmla="val 47491"/>
              <a:gd name="adj2" fmla="val 49264"/>
            </a:avLst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7513560" y="551664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利用可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897800" y="3103560"/>
            <a:ext cx="110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コンテ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アプリケーション全体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例）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Web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アプリケーショ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構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画面周り → 業務ロジック →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DA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ポーネン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業務ロジック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画面種類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補助ロジッ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DAO -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テーブル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DataSourc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ConnectionPool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）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- S2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標準があ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設定ファイ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ンポーネントの種類数くら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409560" y="5950080"/>
            <a:ext cx="309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設定ファイルは分割と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include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が可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開発期間短縮のための並行開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interface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で作業を分け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先に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interfac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を決め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interfac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は頻繁に変えるものではな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interfac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だけ知っていれば使えるようにす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モックを用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モックを使った単体テストをやりやす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単機能ごとなのでモックもシンプ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DAO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モックを用意して業務ロジック自動テス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1833480" y="2486160"/>
            <a:ext cx="722520" cy="529920"/>
          </a:xfrm>
          <a:custGeom>
            <a:avLst/>
            <a:gdLst/>
            <a:ahLst/>
            <a:rect l="l" t="t" r="r" b="b"/>
            <a:pathLst>
              <a:path w="455" h="334">
                <a:moveTo>
                  <a:pt x="8" y="0"/>
                </a:moveTo>
                <a:cubicBezTo>
                  <a:pt x="19" y="47"/>
                  <a:pt x="0" y="228"/>
                  <a:pt x="74" y="281"/>
                </a:cubicBezTo>
                <a:cubicBezTo>
                  <a:pt x="142" y="334"/>
                  <a:pt x="376" y="313"/>
                  <a:pt x="455" y="32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556000" y="4508640"/>
            <a:ext cx="1871640" cy="14396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モック利用単体テストイメー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本番用、テスト用の設定ファイルを用意す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設定ファイルごと切り替え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843280" y="4795920"/>
            <a:ext cx="431640" cy="360360"/>
          </a:xfrm>
          <a:prstGeom prst="rect">
            <a:avLst/>
          </a:prstGeom>
          <a:solidFill>
            <a:srgbClr val="b3e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780000" y="4795920"/>
            <a:ext cx="431640" cy="360360"/>
          </a:xfrm>
          <a:prstGeom prst="rect">
            <a:avLst/>
          </a:prstGeom>
          <a:solidFill>
            <a:srgbClr val="b3e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258920" y="4795920"/>
            <a:ext cx="1009440" cy="360360"/>
          </a:xfrm>
          <a:prstGeom prst="rect">
            <a:avLst/>
          </a:prstGeom>
          <a:solidFill>
            <a:srgbClr val="b3e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m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755640" y="4979880"/>
            <a:ext cx="50328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0" name=""/>
          <p:cNvCxnSpPr>
            <a:stCxn id="228" idx="3"/>
            <a:endCxn id="226" idx="1"/>
          </p:cNvCxnSpPr>
          <p:nvPr/>
        </p:nvCxnSpPr>
        <p:spPr>
          <a:xfrm>
            <a:off x="2268000" y="4976280"/>
            <a:ext cx="575640" cy="108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lg" type="arrow" w="lg"/>
          </a:ln>
        </p:spPr>
      </p:cxnSp>
      <p:cxnSp>
        <p:nvCxnSpPr>
          <p:cNvPr id="231" name=""/>
          <p:cNvCxnSpPr>
            <a:stCxn id="226" idx="3"/>
            <a:endCxn id="232" idx="1"/>
          </p:cNvCxnSpPr>
          <p:nvPr/>
        </p:nvCxnSpPr>
        <p:spPr>
          <a:xfrm>
            <a:off x="3274560" y="4976280"/>
            <a:ext cx="505800" cy="57708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lg" type="arrow" w="lg"/>
          </a:ln>
        </p:spPr>
      </p:cxnSp>
      <p:cxnSp>
        <p:nvCxnSpPr>
          <p:cNvPr id="233" name=""/>
          <p:cNvCxnSpPr>
            <a:stCxn id="226" idx="3"/>
            <a:endCxn id="227" idx="1"/>
          </p:cNvCxnSpPr>
          <p:nvPr/>
        </p:nvCxnSpPr>
        <p:spPr>
          <a:xfrm>
            <a:off x="3274560" y="4976280"/>
            <a:ext cx="505800" cy="108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lg" type="arrow" w="lg"/>
          </a:ln>
        </p:spPr>
      </p:cxnSp>
      <p:sp>
        <p:nvSpPr>
          <p:cNvPr id="234" name=""/>
          <p:cNvSpPr/>
          <p:nvPr/>
        </p:nvSpPr>
        <p:spPr>
          <a:xfrm>
            <a:off x="5003640" y="5300640"/>
            <a:ext cx="576360" cy="503280"/>
          </a:xfrm>
          <a:prstGeom prst="can">
            <a:avLst>
              <a:gd name="adj" fmla="val 250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5" name=""/>
          <p:cNvCxnSpPr>
            <a:stCxn id="232" idx="3"/>
            <a:endCxn id="234" idx="2"/>
          </p:cNvCxnSpPr>
          <p:nvPr/>
        </p:nvCxnSpPr>
        <p:spPr>
          <a:xfrm>
            <a:off x="4211640" y="5552640"/>
            <a:ext cx="792720" cy="108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lg" type="arrow" w="lg"/>
          </a:ln>
        </p:spPr>
      </p:cxnSp>
      <p:sp>
        <p:nvSpPr>
          <p:cNvPr id="236" name=""/>
          <p:cNvSpPr/>
          <p:nvPr/>
        </p:nvSpPr>
        <p:spPr>
          <a:xfrm>
            <a:off x="539640" y="2982960"/>
            <a:ext cx="170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テスト用設定ファイル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780000" y="5372280"/>
            <a:ext cx="431640" cy="360360"/>
          </a:xfrm>
          <a:prstGeom prst="rect">
            <a:avLst/>
          </a:prstGeom>
          <a:solidFill>
            <a:srgbClr val="b3e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556000" y="1844640"/>
            <a:ext cx="1871640" cy="1440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843280" y="2131920"/>
            <a:ext cx="431640" cy="360360"/>
          </a:xfrm>
          <a:prstGeom prst="rect">
            <a:avLst/>
          </a:prstGeom>
          <a:solidFill>
            <a:srgbClr val="b3e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258920" y="2131920"/>
            <a:ext cx="1009440" cy="360360"/>
          </a:xfrm>
          <a:prstGeom prst="rect">
            <a:avLst/>
          </a:prstGeom>
          <a:solidFill>
            <a:srgbClr val="b3e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0" name=""/>
          <p:cNvCxnSpPr>
            <a:stCxn id="239" idx="3"/>
            <a:endCxn id="238" idx="1"/>
          </p:cNvCxnSpPr>
          <p:nvPr/>
        </p:nvCxnSpPr>
        <p:spPr>
          <a:xfrm>
            <a:off x="2268000" y="2312640"/>
            <a:ext cx="575640" cy="108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lg" type="arrow" w="lg"/>
          </a:ln>
        </p:spPr>
      </p:cxnSp>
      <p:cxnSp>
        <p:nvCxnSpPr>
          <p:cNvPr id="241" name=""/>
          <p:cNvCxnSpPr>
            <a:stCxn id="238" idx="3"/>
            <a:endCxn id="242" idx="1"/>
          </p:cNvCxnSpPr>
          <p:nvPr/>
        </p:nvCxnSpPr>
        <p:spPr>
          <a:xfrm>
            <a:off x="3274560" y="2313000"/>
            <a:ext cx="505800" cy="57528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lg" type="arrow" w="lg"/>
          </a:ln>
        </p:spPr>
      </p:cxnSp>
      <p:cxnSp>
        <p:nvCxnSpPr>
          <p:cNvPr id="243" name=""/>
          <p:cNvCxnSpPr>
            <a:stCxn id="238" idx="3"/>
            <a:endCxn id="244" idx="1"/>
          </p:cNvCxnSpPr>
          <p:nvPr/>
        </p:nvCxnSpPr>
        <p:spPr>
          <a:xfrm>
            <a:off x="3274560" y="2312640"/>
            <a:ext cx="505800" cy="108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lg" type="arrow" w="lg"/>
          </a:ln>
        </p:spPr>
      </p:cxnSp>
      <p:sp>
        <p:nvSpPr>
          <p:cNvPr id="244" name=""/>
          <p:cNvSpPr/>
          <p:nvPr/>
        </p:nvSpPr>
        <p:spPr>
          <a:xfrm>
            <a:off x="3780000" y="2133720"/>
            <a:ext cx="431640" cy="358560"/>
          </a:xfrm>
          <a:prstGeom prst="plus">
            <a:avLst>
              <a:gd name="adj" fmla="val 25000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780000" y="2708280"/>
            <a:ext cx="431640" cy="358920"/>
          </a:xfrm>
          <a:prstGeom prst="plus">
            <a:avLst>
              <a:gd name="adj" fmla="val 25000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835280" y="5156280"/>
            <a:ext cx="722160" cy="530280"/>
          </a:xfrm>
          <a:custGeom>
            <a:avLst/>
            <a:gdLst/>
            <a:ahLst/>
            <a:rect l="l" t="t" r="r" b="b"/>
            <a:pathLst>
              <a:path w="455" h="334">
                <a:moveTo>
                  <a:pt x="8" y="0"/>
                </a:moveTo>
                <a:cubicBezTo>
                  <a:pt x="19" y="47"/>
                  <a:pt x="0" y="228"/>
                  <a:pt x="74" y="281"/>
                </a:cubicBezTo>
                <a:cubicBezTo>
                  <a:pt x="142" y="334"/>
                  <a:pt x="376" y="313"/>
                  <a:pt x="455" y="32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31800" y="5645160"/>
            <a:ext cx="155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本番用設定ファイル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755640" y="2316240"/>
            <a:ext cx="50328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643280" y="1916280"/>
            <a:ext cx="4175280" cy="17370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lass="..EmployeeDaoMock" 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lass="..EmployeeLogicImpl" 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43280" y="4570560"/>
            <a:ext cx="4175280" cy="17370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lass="..EmployeeDaoImpl" 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lass="..EmployeeLogicImpl" 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004000" y="2708280"/>
            <a:ext cx="3423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テスト時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を簡単にできる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2Unit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有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JUnit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の拡張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テナを使うデメリッ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新しい考え方を身につけないといけな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ただ使うだけなら難しくな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有効に使う設計を考えるとちょっと難し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ソースコードだけでは処理を追えな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interfac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、設定ファイルを使うことのデメリッ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Eclipse3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プラグインで軽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2.x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を使用している方はごめんなさ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テナの使い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設定の手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ファイル（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.dicon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引数を渡す感覚の記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Eclipse3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プラグインあ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チェックとコード補完、ツリー表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Java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コー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.dico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処理で使われる内部処理を直接実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Groovy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ファイ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サブプロジェクト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GroovyBuil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5256360" y="981000"/>
            <a:ext cx="3779640" cy="230364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2"/>
          <a:stretch/>
        </p:blipFill>
        <p:spPr>
          <a:xfrm>
            <a:off x="8388360" y="3316320"/>
            <a:ext cx="609480" cy="60948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08120" y="1941480"/>
            <a:ext cx="287280" cy="289080"/>
          </a:xfrm>
          <a:prstGeom prst="ellipse">
            <a:avLst/>
          </a:prstGeom>
          <a:noFill/>
          <a:ln w="381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6156360" y="3357720"/>
            <a:ext cx="2303280" cy="52704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1146600" y="6093000"/>
            <a:ext cx="24408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では満足できない人向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57040" y="4221000"/>
            <a:ext cx="785880" cy="2016360"/>
          </a:xfrm>
          <a:custGeom>
            <a:avLst/>
            <a:gdLst/>
            <a:ahLst/>
            <a:rect l="l" t="t" r="r" b="b"/>
            <a:pathLst>
              <a:path w="495" h="1270">
                <a:moveTo>
                  <a:pt x="269" y="1270"/>
                </a:moveTo>
                <a:cubicBezTo>
                  <a:pt x="230" y="1179"/>
                  <a:pt x="70" y="871"/>
                  <a:pt x="35" y="722"/>
                </a:cubicBezTo>
                <a:cubicBezTo>
                  <a:pt x="0" y="573"/>
                  <a:pt x="38" y="466"/>
                  <a:pt x="62" y="376"/>
                </a:cubicBezTo>
                <a:cubicBezTo>
                  <a:pt x="86" y="286"/>
                  <a:pt x="135" y="237"/>
                  <a:pt x="179" y="184"/>
                </a:cubicBezTo>
                <a:cubicBezTo>
                  <a:pt x="223" y="131"/>
                  <a:pt x="270" y="87"/>
                  <a:pt x="323" y="56"/>
                </a:cubicBezTo>
                <a:cubicBezTo>
                  <a:pt x="376" y="25"/>
                  <a:pt x="459" y="12"/>
                  <a:pt x="495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538200" y="5326200"/>
            <a:ext cx="520560" cy="911160"/>
          </a:xfrm>
          <a:custGeom>
            <a:avLst/>
            <a:gdLst/>
            <a:ahLst/>
            <a:rect l="l" t="t" r="r" b="b"/>
            <a:pathLst>
              <a:path w="328" h="574">
                <a:moveTo>
                  <a:pt x="92" y="574"/>
                </a:moveTo>
                <a:cubicBezTo>
                  <a:pt x="78" y="514"/>
                  <a:pt x="0" y="302"/>
                  <a:pt x="8" y="213"/>
                </a:cubicBezTo>
                <a:cubicBezTo>
                  <a:pt x="16" y="124"/>
                  <a:pt x="88" y="77"/>
                  <a:pt x="141" y="42"/>
                </a:cubicBezTo>
                <a:cubicBezTo>
                  <a:pt x="194" y="7"/>
                  <a:pt x="289" y="9"/>
                  <a:pt x="328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ポーネント定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定義する内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コンポーネン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ポーネントの窓口クラス（必須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ポーネント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コンポーネントの初期化方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依存関係、設定値の設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ンストラク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セッタ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任意のメソッ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7059600" y="3286080"/>
            <a:ext cx="1079640" cy="1224000"/>
          </a:xfrm>
          <a:prstGeom prst="rect">
            <a:avLst/>
          </a:prstGeom>
          <a:solidFill>
            <a:srgbClr val="e7e7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7380360" y="2997360"/>
            <a:ext cx="431640" cy="360360"/>
          </a:xfrm>
          <a:prstGeom prst="rect">
            <a:avLst/>
          </a:prstGeom>
          <a:solidFill>
            <a:srgbClr val="b3e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7635960" y="3718080"/>
            <a:ext cx="431640" cy="21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132680" y="3646440"/>
            <a:ext cx="43164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7562880" y="4221000"/>
            <a:ext cx="43164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9" name=""/>
          <p:cNvCxnSpPr>
            <a:stCxn id="265" idx="2"/>
            <a:endCxn id="267" idx="0"/>
          </p:cNvCxnSpPr>
          <p:nvPr/>
        </p:nvCxnSpPr>
        <p:spPr>
          <a:xfrm flipH="1">
            <a:off x="7348320" y="3357720"/>
            <a:ext cx="248400" cy="28944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lg" type="arrow" w="lg"/>
          </a:ln>
        </p:spPr>
      </p:cxnSp>
      <p:cxnSp>
        <p:nvCxnSpPr>
          <p:cNvPr id="270" name=""/>
          <p:cNvCxnSpPr>
            <a:stCxn id="265" idx="2"/>
            <a:endCxn id="266" idx="0"/>
          </p:cNvCxnSpPr>
          <p:nvPr/>
        </p:nvCxnSpPr>
        <p:spPr>
          <a:xfrm>
            <a:off x="7596000" y="3357360"/>
            <a:ext cx="255960" cy="36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lg" type="arrow" w="lg"/>
          </a:ln>
        </p:spPr>
      </p:cxnSp>
      <p:cxnSp>
        <p:nvCxnSpPr>
          <p:cNvPr id="271" name=""/>
          <p:cNvCxnSpPr>
            <a:stCxn id="266" idx="2"/>
            <a:endCxn id="268" idx="0"/>
          </p:cNvCxnSpPr>
          <p:nvPr/>
        </p:nvCxnSpPr>
        <p:spPr>
          <a:xfrm flipH="1">
            <a:off x="7778520" y="3933720"/>
            <a:ext cx="73440" cy="28800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lg" type="arrow" w="lg"/>
          </a:ln>
        </p:spPr>
      </p:cxnSp>
      <p:sp>
        <p:nvSpPr>
          <p:cNvPr id="272" name=""/>
          <p:cNvSpPr/>
          <p:nvPr/>
        </p:nvSpPr>
        <p:spPr>
          <a:xfrm rot="2431800">
            <a:off x="6843240" y="2494080"/>
            <a:ext cx="574920" cy="574560"/>
          </a:xfrm>
          <a:prstGeom prst="rightArrow">
            <a:avLst>
              <a:gd name="adj1" fmla="val 49722"/>
              <a:gd name="adj2" fmla="val 47543"/>
            </a:avLst>
          </a:prstGeom>
          <a:solidFill>
            <a:srgbClr val="ff9999"/>
          </a:solidFill>
          <a:ln w="936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88760" y="1700280"/>
            <a:ext cx="29239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これこそコンポーネントとみなして良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5292360" y="2100240"/>
            <a:ext cx="358920" cy="320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設定ファイル例（コンストラクタ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427640" y="5661000"/>
            <a:ext cx="865080" cy="216000"/>
          </a:xfrm>
          <a:prstGeom prst="rect">
            <a:avLst/>
          </a:prstGeom>
          <a:solidFill>
            <a:srgbClr val="efef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47640" y="3573360"/>
            <a:ext cx="5869080" cy="863640"/>
          </a:xfrm>
          <a:prstGeom prst="rect">
            <a:avLst/>
          </a:prstGeom>
          <a:solidFill>
            <a:srgbClr val="e7e7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52360" y="3884760"/>
            <a:ext cx="2772000" cy="264960"/>
          </a:xfrm>
          <a:prstGeom prst="rect">
            <a:avLst/>
          </a:prstGeom>
          <a:solidFill>
            <a:srgbClr val="efef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763640" y="3884760"/>
            <a:ext cx="1440000" cy="264960"/>
          </a:xfrm>
          <a:prstGeom prst="rect">
            <a:avLst/>
          </a:prstGeom>
          <a:solidFill>
            <a:srgbClr val="d9d9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755640" y="4941720"/>
            <a:ext cx="3672000" cy="1008360"/>
          </a:xfrm>
          <a:prstGeom prst="rect">
            <a:avLst/>
          </a:prstGeom>
          <a:solidFill>
            <a:srgbClr val="e7e7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292720" y="5589720"/>
            <a:ext cx="3095640" cy="863640"/>
          </a:xfrm>
          <a:prstGeom prst="rect">
            <a:avLst/>
          </a:prstGeom>
          <a:solidFill>
            <a:srgbClr val="d9d9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647640" y="2421000"/>
            <a:ext cx="8028000" cy="863640"/>
          </a:xfrm>
          <a:prstGeom prst="rect">
            <a:avLst/>
          </a:prstGeom>
          <a:solidFill>
            <a:srgbClr val="d9d9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" y="1258920"/>
            <a:ext cx="8664480" cy="40525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xml version="1.0" encoding="UTF-8"?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!DOCTYPE components PUBLIC "-//SEASAR//DTD S2Container//EN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    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"http://www.seasar.org/dtd/components.dtd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name="employeeDao" class="examples.EmployeeDaoImpl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（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省略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omponent class="examples.EmployeeLogicImpl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arg&gt;employeeDao&lt;/arg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826920" y="5013360"/>
            <a:ext cx="348948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 u="sng">
                <a:solidFill>
                  <a:srgbClr val="000000"/>
                </a:solidFill>
                <a:uFillTx/>
                <a:latin typeface="ＭＳ ゴシック"/>
                <a:ea typeface="ＭＳ ゴシック"/>
              </a:rPr>
              <a:t>:EmployeeLogicImp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826920" y="5302080"/>
            <a:ext cx="3489480" cy="28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- employeeDao: EmployeeDa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826920" y="5589720"/>
            <a:ext cx="348948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+ EmployeeLogicImpl(EmployeeDa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5364000" y="5661000"/>
            <a:ext cx="2953080" cy="29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 u="sng">
                <a:solidFill>
                  <a:srgbClr val="000000"/>
                </a:solidFill>
                <a:uFillTx/>
                <a:latin typeface="ＭＳ ゴシック"/>
                <a:ea typeface="ＭＳ ゴシック"/>
              </a:rPr>
              <a:t>employeeDao:EmployeeDaoImp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5364000" y="5950080"/>
            <a:ext cx="2953080" cy="21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364000" y="6165720"/>
            <a:ext cx="295308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0" name=""/>
          <p:cNvCxnSpPr>
            <a:stCxn id="284" idx="3"/>
            <a:endCxn id="291" idx="2"/>
          </p:cNvCxnSpPr>
          <p:nvPr/>
        </p:nvCxnSpPr>
        <p:spPr>
          <a:xfrm>
            <a:off x="4316400" y="5157360"/>
            <a:ext cx="2417040" cy="252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291" name=""/>
          <p:cNvSpPr/>
          <p:nvPr/>
        </p:nvSpPr>
        <p:spPr>
          <a:xfrm>
            <a:off x="6732720" y="5051520"/>
            <a:ext cx="215640" cy="215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732720" y="5267160"/>
            <a:ext cx="215640" cy="1447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3" name=""/>
          <p:cNvCxnSpPr>
            <a:stCxn id="292" idx="3"/>
            <a:endCxn id="287" idx="0"/>
          </p:cNvCxnSpPr>
          <p:nvPr/>
        </p:nvCxnSpPr>
        <p:spPr>
          <a:xfrm>
            <a:off x="6840000" y="5411880"/>
            <a:ext cx="1080" cy="24984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294" name=""/>
          <p:cNvSpPr/>
          <p:nvPr/>
        </p:nvSpPr>
        <p:spPr>
          <a:xfrm>
            <a:off x="6838560" y="4979880"/>
            <a:ext cx="152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EmployeeDa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2843280" y="3573360"/>
            <a:ext cx="3744720" cy="360360"/>
          </a:xfrm>
          <a:prstGeom prst="ellipse">
            <a:avLst/>
          </a:prstGeom>
          <a:noFill/>
          <a:ln w="1908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703200" y="4076640"/>
            <a:ext cx="15523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実装クラス名を書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7" name=""/>
          <p:cNvCxnSpPr>
            <a:stCxn id="296" idx="1"/>
            <a:endCxn id="295" idx="4"/>
          </p:cNvCxnSpPr>
          <p:nvPr/>
        </p:nvCxnSpPr>
        <p:spPr>
          <a:xfrm rot="10800000">
            <a:off x="4715640" y="3942720"/>
            <a:ext cx="1656720" cy="337320"/>
          </a:xfrm>
          <a:prstGeom prst="curvedConnector2">
            <a:avLst/>
          </a:prstGeom>
          <a:ln w="19080">
            <a:solidFill>
              <a:srgbClr val="333399"/>
            </a:solidFill>
            <a:prstDash val="dash"/>
            <a:miter/>
          </a:ln>
        </p:spPr>
      </p:cxnSp>
      <p:sp>
        <p:nvSpPr>
          <p:cNvPr id="298" name=""/>
          <p:cNvSpPr/>
          <p:nvPr/>
        </p:nvSpPr>
        <p:spPr>
          <a:xfrm>
            <a:off x="5219640" y="2421000"/>
            <a:ext cx="3457800" cy="360360"/>
          </a:xfrm>
          <a:prstGeom prst="ellipse">
            <a:avLst/>
          </a:prstGeom>
          <a:noFill/>
          <a:ln w="1908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9" name=""/>
          <p:cNvCxnSpPr>
            <a:stCxn id="298" idx="4"/>
            <a:endCxn id="296" idx="0"/>
          </p:cNvCxnSpPr>
          <p:nvPr/>
        </p:nvCxnSpPr>
        <p:spPr>
          <a:xfrm flipH="1" rot="16200000">
            <a:off x="6571440" y="3167280"/>
            <a:ext cx="1286640" cy="532800"/>
          </a:xfrm>
          <a:prstGeom prst="curvedConnector5">
            <a:avLst>
              <a:gd name="adj1" fmla="val 49482"/>
              <a:gd name="adj2" fmla="val 49966"/>
              <a:gd name="adj3" fmla="val 49482"/>
            </a:avLst>
          </a:prstGeom>
          <a:ln w="19080">
            <a:solidFill>
              <a:srgbClr val="333399"/>
            </a:solidFill>
            <a:prstDash val="dash"/>
            <a:miter/>
          </a:ln>
        </p:spPr>
      </p:cxnSp>
      <p:sp>
        <p:nvSpPr>
          <p:cNvPr id="300" name=""/>
          <p:cNvSpPr/>
          <p:nvPr/>
        </p:nvSpPr>
        <p:spPr>
          <a:xfrm>
            <a:off x="2771640" y="2421000"/>
            <a:ext cx="1584360" cy="360360"/>
          </a:xfrm>
          <a:prstGeom prst="ellipse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V="1">
            <a:off x="2268360" y="3644280"/>
            <a:ext cx="360720" cy="215640"/>
          </a:xfrm>
          <a:prstGeom prst="triangle">
            <a:avLst>
              <a:gd name="adj" fmla="val 50000"/>
            </a:avLst>
          </a:prstGeom>
          <a:solidFill>
            <a:srgbClr val="33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2" name=""/>
          <p:cNvCxnSpPr>
            <a:stCxn id="301" idx="3"/>
            <a:endCxn id="300" idx="4"/>
          </p:cNvCxnSpPr>
          <p:nvPr/>
        </p:nvCxnSpPr>
        <p:spPr>
          <a:xfrm flipH="1" flipV="1" rot="5400000">
            <a:off x="2578680" y="2659320"/>
            <a:ext cx="855000" cy="1116720"/>
          </a:xfrm>
          <a:prstGeom prst="curvedConnector5">
            <a:avLst>
              <a:gd name="adj1" fmla="val 50547"/>
              <a:gd name="adj2" fmla="val 49983"/>
              <a:gd name="adj3" fmla="val 50547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03" name=""/>
          <p:cNvCxnSpPr>
            <a:stCxn id="287" idx="1"/>
            <a:endCxn id="286" idx="3"/>
          </p:cNvCxnSpPr>
          <p:nvPr/>
        </p:nvCxnSpPr>
        <p:spPr>
          <a:xfrm rot="10800000">
            <a:off x="4315680" y="5734080"/>
            <a:ext cx="1048320" cy="76680"/>
          </a:xfrm>
          <a:prstGeom prst="curvedConnector5">
            <a:avLst>
              <a:gd name="adj1" fmla="val 49982"/>
              <a:gd name="adj2" fmla="val 50000"/>
              <a:gd name="adj3" fmla="val 49982"/>
            </a:avLst>
          </a:prstGeom>
          <a:ln w="9360">
            <a:solidFill>
              <a:srgbClr val="333399"/>
            </a:solidFill>
            <a:miter/>
            <a:tailEnd len="lg" type="stealth" w="lg"/>
          </a:ln>
        </p:spPr>
      </p:cxnSp>
      <p:pic>
        <p:nvPicPr>
          <p:cNvPr id="304" name="" descr=""/>
          <p:cNvPicPr/>
          <p:nvPr/>
        </p:nvPicPr>
        <p:blipFill>
          <a:blip r:embed="rId1"/>
          <a:stretch/>
        </p:blipFill>
        <p:spPr>
          <a:xfrm>
            <a:off x="108000" y="2349360"/>
            <a:ext cx="358560" cy="3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設定ファイル例（自動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1116000" y="2997360"/>
            <a:ext cx="2808360" cy="287280"/>
          </a:xfrm>
          <a:prstGeom prst="rect">
            <a:avLst/>
          </a:prstGeom>
          <a:solidFill>
            <a:srgbClr val="d9d9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55640" y="1844640"/>
            <a:ext cx="863640" cy="289080"/>
          </a:xfrm>
          <a:prstGeom prst="rect">
            <a:avLst/>
          </a:prstGeom>
          <a:solidFill>
            <a:srgbClr val="d9d9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28600" y="1258920"/>
            <a:ext cx="8664480" cy="2894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name="employeeDao" class="examples.EmployeeDaoImpl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（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省略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omponent class="examples.EmployeeLogicImpl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arg&gt;employeeDao&lt;/arg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" y="5143680"/>
            <a:ext cx="8664480" cy="1158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class="examples.EmployeeDaoImpl" 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omponent class="examples.EmployeeLogicImpl" 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2771640" y="4005360"/>
            <a:ext cx="3745080" cy="1008000"/>
          </a:xfrm>
          <a:prstGeom prst="downArrow">
            <a:avLst>
              <a:gd name="adj1" fmla="val 68380"/>
              <a:gd name="adj2" fmla="val 56694"/>
            </a:avLst>
          </a:prstGeom>
          <a:solidFill>
            <a:srgbClr val="d9d9f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自動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で省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1"/>
          <a:stretch/>
        </p:blipFill>
        <p:spPr>
          <a:xfrm>
            <a:off x="108000" y="1484280"/>
            <a:ext cx="358560" cy="358920"/>
          </a:xfrm>
          <a:prstGeom prst="rect">
            <a:avLst/>
          </a:prstGeom>
          <a:ln w="0">
            <a:noFill/>
          </a:ln>
        </p:spPr>
      </p:pic>
      <p:pic>
        <p:nvPicPr>
          <p:cNvPr id="312" name="" descr=""/>
          <p:cNvPicPr/>
          <p:nvPr/>
        </p:nvPicPr>
        <p:blipFill>
          <a:blip r:embed="rId2"/>
          <a:stretch/>
        </p:blipFill>
        <p:spPr>
          <a:xfrm>
            <a:off x="108000" y="5373720"/>
            <a:ext cx="358560" cy="35892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/>
          <p:nvPr/>
        </p:nvSpPr>
        <p:spPr>
          <a:xfrm>
            <a:off x="6755040" y="4437000"/>
            <a:ext cx="161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細かく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ON/OFF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可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目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easarV2 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略して 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 = DI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コンテナ 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+ A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テナで解決するこ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テナの仕組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どのように使うの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テナまと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解決できない問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AOP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で解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まと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設定ファイル例（メソッド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3573360"/>
            <a:ext cx="5869080" cy="1727280"/>
          </a:xfrm>
          <a:prstGeom prst="rect">
            <a:avLst/>
          </a:prstGeom>
          <a:solidFill>
            <a:srgbClr val="e7e7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584360" y="4172040"/>
            <a:ext cx="2771640" cy="264960"/>
          </a:xfrm>
          <a:prstGeom prst="rect">
            <a:avLst/>
          </a:prstGeom>
          <a:solidFill>
            <a:srgbClr val="efef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195640" y="4172040"/>
            <a:ext cx="1439640" cy="264960"/>
          </a:xfrm>
          <a:prstGeom prst="rect">
            <a:avLst/>
          </a:prstGeom>
          <a:solidFill>
            <a:srgbClr val="d9d9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647640" y="2421000"/>
            <a:ext cx="8028000" cy="863640"/>
          </a:xfrm>
          <a:prstGeom prst="rect">
            <a:avLst/>
          </a:prstGeom>
          <a:solidFill>
            <a:srgbClr val="d9d9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228600" y="1258920"/>
            <a:ext cx="8664480" cy="492084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xml version="1.0" encoding="UTF-8"?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!DOCTYPE components PUBLIC "-//SEASAR//DTD S2Container//EN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    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"http://www.seasar.org/dtd/components.dtd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name="employeeDao" class="examples.EmployeeDaoImpl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（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省略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class="examples.EmployeeLogicImpl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initMethod name="setEmployeeDao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arg&gt;employeeDao&lt;/arg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initMetho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initMethod name="setup" 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6732720" y="378936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7032960" y="422100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書いた順に実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1"/>
          <a:stretch/>
        </p:blipFill>
        <p:spPr>
          <a:xfrm>
            <a:off x="108000" y="2349360"/>
            <a:ext cx="358560" cy="3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テナまと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メリッ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再利用しやすくな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テストしやすくな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メンテナンスしやすくな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設定しやすくな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692000" y="3141720"/>
            <a:ext cx="576108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Arial"/>
              </a:rPr>
              <a:t>AOP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73040" y="1916280"/>
            <a:ext cx="270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テナ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+ A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4859280" y="2361960"/>
            <a:ext cx="407880" cy="561960"/>
          </a:xfrm>
          <a:prstGeom prst="line">
            <a:avLst/>
          </a:prstGeom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5076720" y="1916280"/>
            <a:ext cx="863640" cy="504720"/>
          </a:xfrm>
          <a:prstGeom prst="ellipse">
            <a:avLst/>
          </a:prstGeom>
          <a:noFill/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テナで解決できない問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中心機能に非中心機能が混ざ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再利用したいけど、余計なロジックが入ってい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例）トランザクション開始、コミット、ロールバッ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大抵は成功時コミット、失敗時ロールバックの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あちこちで同じ処理を書くから面倒くさ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しかも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Connection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を関連メソッド全部で持ち回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再利用の邪魔！　コードの見通し悪い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3564000" y="4292640"/>
            <a:ext cx="2303280" cy="1150920"/>
          </a:xfrm>
          <a:prstGeom prst="downArrow">
            <a:avLst>
              <a:gd name="adj1" fmla="val 49963"/>
              <a:gd name="adj2" fmla="val 52278"/>
            </a:avLst>
          </a:prstGeom>
          <a:solidFill>
            <a:srgbClr val="b3e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4356000" y="4508640"/>
            <a:ext cx="216000" cy="215640"/>
          </a:xfrm>
          <a:custGeom>
            <a:avLst/>
            <a:gdLst/>
            <a:ahLst/>
            <a:rect l="l" t="t" r="r" b="b"/>
            <a:pathLst>
              <a:path w="136" h="136">
                <a:moveTo>
                  <a:pt x="136" y="0"/>
                </a:moveTo>
                <a:cubicBezTo>
                  <a:pt x="127" y="14"/>
                  <a:pt x="125" y="40"/>
                  <a:pt x="84" y="86"/>
                </a:cubicBezTo>
                <a:cubicBezTo>
                  <a:pt x="43" y="132"/>
                  <a:pt x="18" y="126"/>
                  <a:pt x="0" y="13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 flipH="1">
            <a:off x="4859280" y="4508640"/>
            <a:ext cx="216000" cy="215640"/>
          </a:xfrm>
          <a:custGeom>
            <a:avLst/>
            <a:gdLst/>
            <a:ahLst/>
            <a:rect l="l" t="t" r="r" b="b"/>
            <a:pathLst>
              <a:path w="136" h="136">
                <a:moveTo>
                  <a:pt x="136" y="0"/>
                </a:moveTo>
                <a:cubicBezTo>
                  <a:pt x="127" y="14"/>
                  <a:pt x="125" y="40"/>
                  <a:pt x="84" y="86"/>
                </a:cubicBezTo>
                <a:cubicBezTo>
                  <a:pt x="43" y="132"/>
                  <a:pt x="18" y="126"/>
                  <a:pt x="0" y="13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4500720" y="4724280"/>
            <a:ext cx="712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4861080" y="4724280"/>
            <a:ext cx="712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4500720" y="5000760"/>
            <a:ext cx="431640" cy="85680"/>
          </a:xfrm>
          <a:custGeom>
            <a:avLst/>
            <a:gdLst/>
            <a:ahLst/>
            <a:rect l="l" t="t" r="r" b="b"/>
            <a:pathLst>
              <a:path w="272" h="54">
                <a:moveTo>
                  <a:pt x="0" y="53"/>
                </a:moveTo>
                <a:cubicBezTo>
                  <a:pt x="23" y="44"/>
                  <a:pt x="61" y="0"/>
                  <a:pt x="137" y="0"/>
                </a:cubicBezTo>
                <a:cubicBezTo>
                  <a:pt x="213" y="0"/>
                  <a:pt x="244" y="43"/>
                  <a:pt x="272" y="5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39960" bIns="39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非中心機能の分離は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A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非中心機能は外に出して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AOP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で解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大抵は成功時コミット、失敗時ロールバックの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ff5050"/>
                </a:solidFill>
                <a:latin typeface="Arial"/>
              </a:rPr>
              <a:t>メソッド開始前、終了後に埋め込めば</a:t>
            </a:r>
            <a:r>
              <a:rPr b="1" lang="ja-JP" sz="2800" spc="-1" strike="noStrike">
                <a:solidFill>
                  <a:srgbClr val="ff5050"/>
                </a:solidFill>
                <a:latin typeface="Arial"/>
              </a:rPr>
              <a:t>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あちこちで同じ処理を書くから面倒くさ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ff5050"/>
                </a:solidFill>
                <a:latin typeface="Arial"/>
              </a:rPr>
              <a:t>　設定ファイルに「ここで開始」と書くだ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しかも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Connection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を関連メソッド全部で持ち回り設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ff5050"/>
                </a:solidFill>
                <a:latin typeface="Arial"/>
              </a:rPr>
              <a:t>　トランザクション管理の仕組みと連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4140360" y="3733920"/>
            <a:ext cx="1155600" cy="431640"/>
          </a:xfrm>
          <a:prstGeom prst="downArrow">
            <a:avLst>
              <a:gd name="adj1" fmla="val 48352"/>
              <a:gd name="adj2" fmla="val 61028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4140360" y="2276640"/>
            <a:ext cx="1155600" cy="431640"/>
          </a:xfrm>
          <a:prstGeom prst="downArrow">
            <a:avLst>
              <a:gd name="adj1" fmla="val 48352"/>
              <a:gd name="adj2" fmla="val 61028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140360" y="5181480"/>
            <a:ext cx="1155600" cy="432000"/>
          </a:xfrm>
          <a:prstGeom prst="downArrow">
            <a:avLst>
              <a:gd name="adj1" fmla="val 48352"/>
              <a:gd name="adj2" fmla="val 61028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269040" y="6095880"/>
            <a:ext cx="214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AOP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というだけでは無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7752600" y="5516640"/>
            <a:ext cx="1166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ここは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 flipH="1">
            <a:off x="7416360" y="5718240"/>
            <a:ext cx="249480" cy="16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設定例（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RequiredInterceptor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116000" y="3860640"/>
            <a:ext cx="4103640" cy="265320"/>
          </a:xfrm>
          <a:prstGeom prst="rect">
            <a:avLst/>
          </a:prstGeom>
          <a:solidFill>
            <a:srgbClr val="efef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2124000" y="3860640"/>
            <a:ext cx="1943280" cy="265320"/>
          </a:xfrm>
          <a:prstGeom prst="rect">
            <a:avLst/>
          </a:prstGeom>
          <a:solidFill>
            <a:srgbClr val="d9d9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47640" y="2421000"/>
            <a:ext cx="3708360" cy="287280"/>
          </a:xfrm>
          <a:prstGeom prst="rect">
            <a:avLst/>
          </a:prstGeom>
          <a:solidFill>
            <a:srgbClr val="d9d9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28600" y="1258920"/>
            <a:ext cx="8664480" cy="3763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xml version="1.0" encoding="UTF-8"?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!DOCTYPE components PUBLIC "-//SEASAR//DTD S2Container//EN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    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"http://www.seasar.org/dtd/components.dtd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include path="j2ee.dicon"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class="examples.EmployeeLogicImpl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arg&gt;employeeDao&lt;/arg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aspect&gt;j2ee.requiredTx&lt;/aspec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 flipV="1">
            <a:off x="1116000" y="3788640"/>
            <a:ext cx="3960720" cy="431640"/>
          </a:xfrm>
          <a:prstGeom prst="ellipse">
            <a:avLst/>
          </a:prstGeom>
          <a:noFill/>
          <a:ln w="1908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4176720" y="4869000"/>
            <a:ext cx="322092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たったこれだけ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POJO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にトランザクション管理機能追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2" name=""/>
          <p:cNvCxnSpPr>
            <a:stCxn id="351" idx="1"/>
            <a:endCxn id="350" idx="0"/>
          </p:cNvCxnSpPr>
          <p:nvPr/>
        </p:nvCxnSpPr>
        <p:spPr>
          <a:xfrm rot="10800000">
            <a:off x="3094920" y="4230720"/>
            <a:ext cx="540360" cy="993960"/>
          </a:xfrm>
          <a:prstGeom prst="curvedConnector2">
            <a:avLst/>
          </a:prstGeom>
          <a:ln w="19080">
            <a:solidFill>
              <a:srgbClr val="333399"/>
            </a:solidFill>
            <a:prstDash val="dash"/>
            <a:miter/>
          </a:ln>
        </p:spPr>
      </p:cxnSp>
      <p:sp>
        <p:nvSpPr>
          <p:cNvPr id="353" name=""/>
          <p:cNvSpPr/>
          <p:nvPr/>
        </p:nvSpPr>
        <p:spPr>
          <a:xfrm>
            <a:off x="4479480" y="2781360"/>
            <a:ext cx="3349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あらかじめ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J2EE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の機能が定義されてい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4" name=""/>
          <p:cNvCxnSpPr>
            <a:stCxn id="353" idx="1"/>
            <a:endCxn id="355" idx="0"/>
          </p:cNvCxnSpPr>
          <p:nvPr/>
        </p:nvCxnSpPr>
        <p:spPr>
          <a:xfrm rot="10800000">
            <a:off x="2518560" y="2786760"/>
            <a:ext cx="1332720" cy="197640"/>
          </a:xfrm>
          <a:prstGeom prst="curvedConnector2">
            <a:avLst/>
          </a:prstGeom>
          <a:ln w="19080">
            <a:solidFill>
              <a:srgbClr val="333399"/>
            </a:solidFill>
            <a:prstDash val="dash"/>
            <a:miter/>
          </a:ln>
        </p:spPr>
      </p:cxnSp>
      <p:sp>
        <p:nvSpPr>
          <p:cNvPr id="355" name=""/>
          <p:cNvSpPr/>
          <p:nvPr/>
        </p:nvSpPr>
        <p:spPr>
          <a:xfrm flipV="1">
            <a:off x="684360" y="2348280"/>
            <a:ext cx="3671640" cy="428760"/>
          </a:xfrm>
          <a:prstGeom prst="ellipse">
            <a:avLst/>
          </a:prstGeom>
          <a:noFill/>
          <a:ln w="1908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1"/>
          <a:stretch/>
        </p:blipFill>
        <p:spPr>
          <a:xfrm>
            <a:off x="108000" y="2349360"/>
            <a:ext cx="358560" cy="3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A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A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メソッド呼び出し前～後に機能を追加す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メソッドのラッパーとみなせ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ポーネントのメソッドにのみ織り込め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2987640" y="3933720"/>
            <a:ext cx="5184720" cy="18716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コンテ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6516720" y="4433760"/>
            <a:ext cx="1512720" cy="1185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Logic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3132000" y="4290840"/>
            <a:ext cx="3240360" cy="122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Log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4788000" y="4651200"/>
            <a:ext cx="1368360" cy="721080"/>
          </a:xfrm>
          <a:prstGeom prst="rect">
            <a:avLst/>
          </a:prstGeom>
          <a:solidFill>
            <a:srgbClr val="d9d9f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LogicAImp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6588000" y="4794120"/>
            <a:ext cx="1368720" cy="719280"/>
          </a:xfrm>
          <a:prstGeom prst="rect">
            <a:avLst/>
          </a:prstGeom>
          <a:solidFill>
            <a:srgbClr val="d9d9f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LogicCImp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1258920" y="4578480"/>
            <a:ext cx="1295280" cy="6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5" name=""/>
          <p:cNvCxnSpPr>
            <a:stCxn id="364" idx="3"/>
            <a:endCxn id="361" idx="1"/>
          </p:cNvCxnSpPr>
          <p:nvPr/>
        </p:nvCxnSpPr>
        <p:spPr>
          <a:xfrm>
            <a:off x="2553840" y="4901760"/>
            <a:ext cx="57852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366" name=""/>
          <p:cNvCxnSpPr>
            <a:stCxn id="362" idx="3"/>
            <a:endCxn id="360" idx="1"/>
          </p:cNvCxnSpPr>
          <p:nvPr/>
        </p:nvCxnSpPr>
        <p:spPr>
          <a:xfrm>
            <a:off x="6156000" y="5011200"/>
            <a:ext cx="361080" cy="16920"/>
          </a:xfrm>
          <a:prstGeom prst="straightConnector1">
            <a:avLst/>
          </a:prstGeom>
          <a:ln w="19080">
            <a:solidFill>
              <a:srgbClr val="333399"/>
            </a:solidFill>
            <a:miter/>
            <a:tailEnd len="lg" type="stealth" w="lg"/>
          </a:ln>
        </p:spPr>
      </p:cxnSp>
      <p:sp>
        <p:nvSpPr>
          <p:cNvPr id="367" name=""/>
          <p:cNvSpPr/>
          <p:nvPr/>
        </p:nvSpPr>
        <p:spPr>
          <a:xfrm>
            <a:off x="3430440" y="3787920"/>
            <a:ext cx="1008360" cy="0"/>
          </a:xfrm>
          <a:prstGeom prst="line">
            <a:avLst/>
          </a:prstGeom>
          <a:ln w="28440">
            <a:solidFill>
              <a:srgbClr val="0099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459240" y="335448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処理の流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3276720" y="4651200"/>
            <a:ext cx="1439640" cy="719280"/>
          </a:xfrm>
          <a:prstGeom prst="rect">
            <a:avLst/>
          </a:prstGeom>
          <a:solidFill>
            <a:srgbClr val="e7e7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Interceptor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0" name=""/>
          <p:cNvCxnSpPr>
            <a:stCxn id="363" idx="2"/>
          </p:cNvCxnSpPr>
          <p:nvPr/>
        </p:nvCxnSpPr>
        <p:spPr>
          <a:xfrm>
            <a:off x="7272000" y="5513400"/>
            <a:ext cx="251640" cy="257760"/>
          </a:xfrm>
          <a:prstGeom prst="straightConnector1">
            <a:avLst/>
          </a:prstGeom>
          <a:ln w="19080">
            <a:solidFill>
              <a:srgbClr val="333399"/>
            </a:solidFill>
            <a:prstDash val="dash"/>
            <a:miter/>
          </a:ln>
        </p:spPr>
      </p:cxnSp>
      <p:sp>
        <p:nvSpPr>
          <p:cNvPr id="371" name=""/>
          <p:cNvSpPr/>
          <p:nvPr/>
        </p:nvSpPr>
        <p:spPr>
          <a:xfrm>
            <a:off x="3144960" y="4727520"/>
            <a:ext cx="3060720" cy="601560"/>
          </a:xfrm>
          <a:custGeom>
            <a:avLst/>
            <a:gdLst/>
            <a:ahLst/>
            <a:rect l="l" t="t" r="r" b="b"/>
            <a:pathLst>
              <a:path w="1928" h="379">
                <a:moveTo>
                  <a:pt x="25" y="94"/>
                </a:moveTo>
                <a:cubicBezTo>
                  <a:pt x="97" y="82"/>
                  <a:pt x="282" y="37"/>
                  <a:pt x="458" y="23"/>
                </a:cubicBezTo>
                <a:cubicBezTo>
                  <a:pt x="634" y="9"/>
                  <a:pt x="858" y="0"/>
                  <a:pt x="1080" y="7"/>
                </a:cubicBezTo>
                <a:cubicBezTo>
                  <a:pt x="1302" y="14"/>
                  <a:pt x="1670" y="9"/>
                  <a:pt x="1789" y="63"/>
                </a:cubicBezTo>
                <a:cubicBezTo>
                  <a:pt x="1908" y="117"/>
                  <a:pt x="1928" y="279"/>
                  <a:pt x="1794" y="329"/>
                </a:cubicBezTo>
                <a:cubicBezTo>
                  <a:pt x="1660" y="379"/>
                  <a:pt x="1216" y="362"/>
                  <a:pt x="983" y="364"/>
                </a:cubicBezTo>
                <a:cubicBezTo>
                  <a:pt x="750" y="366"/>
                  <a:pt x="561" y="368"/>
                  <a:pt x="397" y="339"/>
                </a:cubicBezTo>
                <a:cubicBezTo>
                  <a:pt x="233" y="310"/>
                  <a:pt x="83" y="222"/>
                  <a:pt x="0" y="191"/>
                </a:cubicBezTo>
              </a:path>
            </a:pathLst>
          </a:custGeom>
          <a:noFill/>
          <a:ln cap="rnd" w="38160">
            <a:solidFill>
              <a:srgbClr val="0099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358240" y="3354480"/>
            <a:ext cx="220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Interceptor: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横取り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4355640" y="3714840"/>
            <a:ext cx="1295640" cy="93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1332000" y="5877000"/>
            <a:ext cx="358560" cy="647640"/>
          </a:xfrm>
          <a:prstGeom prst="rect">
            <a:avLst/>
          </a:prstGeom>
          <a:solidFill>
            <a:srgbClr val="e7e7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1690560" y="5877000"/>
            <a:ext cx="360360" cy="647640"/>
          </a:xfrm>
          <a:prstGeom prst="rect">
            <a:avLst/>
          </a:prstGeom>
          <a:solidFill>
            <a:srgbClr val="e7e7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050920" y="5877000"/>
            <a:ext cx="360360" cy="647640"/>
          </a:xfrm>
          <a:prstGeom prst="rect">
            <a:avLst/>
          </a:prstGeom>
          <a:solidFill>
            <a:srgbClr val="e7e7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132520" y="6021360"/>
            <a:ext cx="41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複数定義の場合、行きは設定順、帰りは逆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482920" y="5877000"/>
            <a:ext cx="288720" cy="649080"/>
          </a:xfrm>
          <a:prstGeom prst="rect">
            <a:avLst/>
          </a:prstGeom>
          <a:solidFill>
            <a:srgbClr val="d9d9f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1042920" y="5950080"/>
            <a:ext cx="1728720" cy="503280"/>
          </a:xfrm>
          <a:custGeom>
            <a:avLst/>
            <a:gdLst/>
            <a:ahLst/>
            <a:rect l="l" t="t" r="r" b="b"/>
            <a:pathLst>
              <a:path w="1928" h="379">
                <a:moveTo>
                  <a:pt x="25" y="94"/>
                </a:moveTo>
                <a:cubicBezTo>
                  <a:pt x="97" y="82"/>
                  <a:pt x="282" y="37"/>
                  <a:pt x="458" y="23"/>
                </a:cubicBezTo>
                <a:cubicBezTo>
                  <a:pt x="634" y="9"/>
                  <a:pt x="858" y="0"/>
                  <a:pt x="1080" y="7"/>
                </a:cubicBezTo>
                <a:cubicBezTo>
                  <a:pt x="1302" y="14"/>
                  <a:pt x="1670" y="9"/>
                  <a:pt x="1789" y="63"/>
                </a:cubicBezTo>
                <a:cubicBezTo>
                  <a:pt x="1908" y="117"/>
                  <a:pt x="1928" y="279"/>
                  <a:pt x="1794" y="329"/>
                </a:cubicBezTo>
                <a:cubicBezTo>
                  <a:pt x="1660" y="379"/>
                  <a:pt x="1216" y="362"/>
                  <a:pt x="983" y="364"/>
                </a:cubicBezTo>
                <a:cubicBezTo>
                  <a:pt x="750" y="366"/>
                  <a:pt x="561" y="368"/>
                  <a:pt x="397" y="339"/>
                </a:cubicBezTo>
                <a:cubicBezTo>
                  <a:pt x="233" y="310"/>
                  <a:pt x="83" y="222"/>
                  <a:pt x="0" y="191"/>
                </a:cubicBezTo>
              </a:path>
            </a:pathLst>
          </a:custGeom>
          <a:noFill/>
          <a:ln cap="rnd" w="38160">
            <a:solidFill>
              <a:srgbClr val="0099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971640" y="5843520"/>
            <a:ext cx="6913440" cy="7066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AOP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メリッ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業務ロジックは業務要件に注力でき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ードの見通しが良いのでメンテナンスしやす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横断的・透過的な機能を外から追加でき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同じ処理を何度も書かなくてす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再利用を促進す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余分なものが含まれないので再利用しやす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非中心機能は横断的なので再利用しやす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まと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コンテ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interfac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と実装を分離す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再利用しやす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テストしやす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メンテナンスしやす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設定しやす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A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中心機能と非中心機能を分離す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ードの見通しが良くな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非中心機能を後から追加でき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再利用しやす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UR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easar2 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公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ＭＳ 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http://www.seasar.org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The Seasar Project 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（暫定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ＭＳ 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http://cgi.f58.aaacafe.ne.jp/~nyororo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easar 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メーリングリス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ＭＳ 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http://sourceforge.jp/projects/seasar/lists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Dependency Injectio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ＭＳ 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http://www.kakutani.com/trans/fowler/injection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OGNL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（設定ファイル内で利用する式言語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ＭＳ 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http://www.ognl.org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クラス間の関係をシンプル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複雑な関係を簡単にした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教科書的：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interface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と実装を分離す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全然使われなかっ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何故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結局どこかでインスタンスを作らないといけな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直接作ると意味がな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Factory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は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Factory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を意識しなければならな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Factory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を一つ一つに作ると大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実装が変わることなんて滅多にないと思われ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278080" y="6021360"/>
            <a:ext cx="485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入門書の例が悪い → 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List list = new ArrayList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実装を気にせず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interface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を使えるようにす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直接インスタンス化すると意味がな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EmployeeDao dao = new EmployeeDaoImpl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3501"/>
              </a:spcBef>
              <a:spcAft>
                <a:spcPts val="28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ff5050"/>
                </a:solidFill>
                <a:latin typeface="Arial"/>
              </a:rPr>
              <a:t>　　インスタンス化は</a:t>
            </a:r>
            <a:r>
              <a:rPr b="1" lang="ja-JP" sz="2800" spc="-1" strike="noStrike">
                <a:solidFill>
                  <a:srgbClr val="ff5050"/>
                </a:solidFill>
                <a:latin typeface="Arial"/>
              </a:rPr>
              <a:t>DI</a:t>
            </a:r>
            <a:r>
              <a:rPr b="1" lang="ja-JP" sz="2800" spc="-1" strike="noStrike">
                <a:solidFill>
                  <a:srgbClr val="ff5050"/>
                </a:solidFill>
                <a:latin typeface="Arial"/>
              </a:rPr>
              <a:t>コンテナが担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Factory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を使うと、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Factory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を意識することにな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EmployeeDao dao = DaoFactory.createInstance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3501"/>
              </a:spcBef>
              <a:spcAft>
                <a:spcPts val="28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ff5050"/>
                </a:solidFill>
                <a:latin typeface="Arial"/>
              </a:rPr>
              <a:t>　　コンストラクタ引数やセッターで渡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そこで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テ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140360" y="2637000"/>
            <a:ext cx="1155600" cy="431640"/>
          </a:xfrm>
          <a:prstGeom prst="downArrow">
            <a:avLst>
              <a:gd name="adj1" fmla="val 48352"/>
              <a:gd name="adj2" fmla="val 61028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140360" y="5084640"/>
            <a:ext cx="1155600" cy="432000"/>
          </a:xfrm>
          <a:prstGeom prst="downArrow">
            <a:avLst>
              <a:gd name="adj1" fmla="val 48352"/>
              <a:gd name="adj2" fmla="val 61028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初期化で困るのはもう止め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28600" y="1258920"/>
            <a:ext cx="8664480" cy="14475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// 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直接インスタンス化す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employeeDao = new EmployeeDaoImpl(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// Factory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を使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employeeDao = DaoFactory.createInstance(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673080" y="126828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600" spc="-1" strike="noStrike">
                <a:solidFill>
                  <a:srgbClr val="ff5050"/>
                </a:solidFill>
                <a:latin typeface="Arial"/>
              </a:rPr>
              <a:t>×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50920" y="3500280"/>
            <a:ext cx="8664480" cy="1158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// 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コンストラクタやセッターを用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void setEmployeeDao(...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this.employeeDao =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219640" y="4941720"/>
            <a:ext cx="2158920" cy="10796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17360" y="5229360"/>
            <a:ext cx="14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テ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"/>
          <p:cNvCxnSpPr>
            <a:stCxn id="102" idx="1"/>
            <a:endCxn id="104" idx="2"/>
          </p:cNvCxnSpPr>
          <p:nvPr/>
        </p:nvCxnSpPr>
        <p:spPr>
          <a:xfrm rot="10800000">
            <a:off x="4318920" y="4075920"/>
            <a:ext cx="1045080" cy="1413720"/>
          </a:xfrm>
          <a:prstGeom prst="curvedConnector2">
            <a:avLst/>
          </a:prstGeom>
          <a:ln w="19080">
            <a:solidFill>
              <a:srgbClr val="333399"/>
            </a:solidFill>
            <a:miter/>
            <a:tailEnd len="lg" type="stealth" w="lg"/>
          </a:ln>
        </p:spPr>
      </p:cxnSp>
      <p:sp>
        <p:nvSpPr>
          <p:cNvPr id="105" name=""/>
          <p:cNvSpPr/>
          <p:nvPr/>
        </p:nvSpPr>
        <p:spPr>
          <a:xfrm>
            <a:off x="1836720" y="5084640"/>
            <a:ext cx="231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生成済みのインスタンスを渡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067280" y="3789360"/>
            <a:ext cx="504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678640" y="3213000"/>
            <a:ext cx="916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600" spc="-1" strike="noStrike">
                <a:solidFill>
                  <a:srgbClr val="ff5050"/>
                </a:solidFill>
                <a:latin typeface="Arial"/>
              </a:rPr>
              <a:t>○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Dependency Injection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パターンが技術基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ソフトウェアをコンポーネント単位に分割す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実装に依存しないようにす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依存関係を管理する仕組みを用意す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781440" y="3645000"/>
            <a:ext cx="1006560" cy="576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パター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195640" y="5734080"/>
            <a:ext cx="1839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765600" y="6237360"/>
            <a:ext cx="29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初期化時、設定を元にコンポーネントを他コンポーネントへ渡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2700000" y="4221000"/>
            <a:ext cx="1150920" cy="201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835280" y="4294080"/>
            <a:ext cx="1079280" cy="1224000"/>
          </a:xfrm>
          <a:prstGeom prst="rect">
            <a:avLst/>
          </a:prstGeom>
          <a:solidFill>
            <a:srgbClr val="e7e7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724360" y="4438800"/>
            <a:ext cx="1079640" cy="1223640"/>
          </a:xfrm>
          <a:prstGeom prst="rect">
            <a:avLst/>
          </a:prstGeom>
          <a:solidFill>
            <a:srgbClr val="e7e7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124000" y="3933720"/>
            <a:ext cx="576360" cy="358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012000" y="4076640"/>
            <a:ext cx="57600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708360" y="4941720"/>
            <a:ext cx="1079640" cy="1224000"/>
          </a:xfrm>
          <a:prstGeom prst="rect">
            <a:avLst/>
          </a:prstGeom>
          <a:solidFill>
            <a:srgbClr val="e7e7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995640" y="4581360"/>
            <a:ext cx="576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195640" y="4005360"/>
            <a:ext cx="431640" cy="360360"/>
          </a:xfrm>
          <a:prstGeom prst="rect">
            <a:avLst/>
          </a:prstGeom>
          <a:solidFill>
            <a:srgbClr val="b3e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411280" y="4726080"/>
            <a:ext cx="432000" cy="21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908000" y="4654440"/>
            <a:ext cx="43200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338560" y="5229360"/>
            <a:ext cx="431640" cy="21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9" idx="2"/>
            <a:endCxn id="121" idx="0"/>
          </p:cNvCxnSpPr>
          <p:nvPr/>
        </p:nvCxnSpPr>
        <p:spPr>
          <a:xfrm flipH="1">
            <a:off x="2123640" y="4365720"/>
            <a:ext cx="288000" cy="28944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lg" type="arrow" w="lg"/>
          </a:ln>
        </p:spPr>
      </p:cxnSp>
      <p:cxnSp>
        <p:nvCxnSpPr>
          <p:cNvPr id="124" name=""/>
          <p:cNvCxnSpPr>
            <a:stCxn id="119" idx="2"/>
            <a:endCxn id="120" idx="0"/>
          </p:cNvCxnSpPr>
          <p:nvPr/>
        </p:nvCxnSpPr>
        <p:spPr>
          <a:xfrm>
            <a:off x="2411280" y="4365360"/>
            <a:ext cx="216720" cy="36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lg" type="arrow" w="lg"/>
          </a:ln>
        </p:spPr>
      </p:cxnSp>
      <p:cxnSp>
        <p:nvCxnSpPr>
          <p:cNvPr id="125" name=""/>
          <p:cNvCxnSpPr>
            <a:stCxn id="120" idx="2"/>
            <a:endCxn id="122" idx="0"/>
          </p:cNvCxnSpPr>
          <p:nvPr/>
        </p:nvCxnSpPr>
        <p:spPr>
          <a:xfrm flipH="1">
            <a:off x="2553480" y="4941360"/>
            <a:ext cx="73800" cy="28836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lg" type="arrow" w="lg"/>
          </a:ln>
        </p:spPr>
      </p:cxnSp>
      <p:sp>
        <p:nvSpPr>
          <p:cNvPr id="126" name=""/>
          <p:cNvSpPr/>
          <p:nvPr/>
        </p:nvSpPr>
        <p:spPr>
          <a:xfrm>
            <a:off x="4067280" y="4654440"/>
            <a:ext cx="431640" cy="360360"/>
          </a:xfrm>
          <a:prstGeom prst="rect">
            <a:avLst/>
          </a:prstGeom>
          <a:solidFill>
            <a:srgbClr val="b3e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284720" y="5589720"/>
            <a:ext cx="431640" cy="21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780000" y="5373720"/>
            <a:ext cx="43164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924360" y="5878440"/>
            <a:ext cx="43164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6" idx="2"/>
            <a:endCxn id="128" idx="0"/>
          </p:cNvCxnSpPr>
          <p:nvPr/>
        </p:nvCxnSpPr>
        <p:spPr>
          <a:xfrm flipH="1">
            <a:off x="3995280" y="5014440"/>
            <a:ext cx="288000" cy="35964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lg" type="arrow" w="lg"/>
          </a:ln>
        </p:spPr>
      </p:cxnSp>
      <p:cxnSp>
        <p:nvCxnSpPr>
          <p:cNvPr id="131" name=""/>
          <p:cNvCxnSpPr>
            <a:stCxn id="126" idx="2"/>
            <a:endCxn id="127" idx="0"/>
          </p:cNvCxnSpPr>
          <p:nvPr/>
        </p:nvCxnSpPr>
        <p:spPr>
          <a:xfrm>
            <a:off x="4282560" y="5014440"/>
            <a:ext cx="218520" cy="57564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lg" type="arrow" w="lg"/>
          </a:ln>
        </p:spPr>
      </p:cxnSp>
      <p:cxnSp>
        <p:nvCxnSpPr>
          <p:cNvPr id="132" name=""/>
          <p:cNvCxnSpPr>
            <a:stCxn id="128" idx="2"/>
            <a:endCxn id="129" idx="0"/>
          </p:cNvCxnSpPr>
          <p:nvPr/>
        </p:nvCxnSpPr>
        <p:spPr>
          <a:xfrm>
            <a:off x="3995640" y="5589720"/>
            <a:ext cx="145440" cy="28944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lg" type="arrow" w="lg"/>
          </a:ln>
        </p:spPr>
      </p:cxnSp>
      <p:sp>
        <p:nvSpPr>
          <p:cNvPr id="133" name=""/>
          <p:cNvSpPr/>
          <p:nvPr/>
        </p:nvSpPr>
        <p:spPr>
          <a:xfrm>
            <a:off x="6083280" y="4149720"/>
            <a:ext cx="432000" cy="360360"/>
          </a:xfrm>
          <a:prstGeom prst="rect">
            <a:avLst/>
          </a:prstGeom>
          <a:solidFill>
            <a:srgbClr val="b3e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867280" y="4726080"/>
            <a:ext cx="432000" cy="21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300720" y="5014800"/>
            <a:ext cx="43200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3" idx="2"/>
            <a:endCxn id="134" idx="0"/>
          </p:cNvCxnSpPr>
          <p:nvPr/>
        </p:nvCxnSpPr>
        <p:spPr>
          <a:xfrm flipH="1">
            <a:off x="6082920" y="4510080"/>
            <a:ext cx="216720" cy="21672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lg" type="arrow" w="lg"/>
          </a:ln>
        </p:spPr>
      </p:cxnSp>
      <p:cxnSp>
        <p:nvCxnSpPr>
          <p:cNvPr id="137" name=""/>
          <p:cNvCxnSpPr>
            <a:stCxn id="134" idx="3"/>
            <a:endCxn id="135" idx="0"/>
          </p:cNvCxnSpPr>
          <p:nvPr/>
        </p:nvCxnSpPr>
        <p:spPr>
          <a:xfrm>
            <a:off x="6299280" y="4834080"/>
            <a:ext cx="218160" cy="18144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lg" type="arrow" w="lg"/>
          </a:ln>
        </p:spPr>
      </p:cxnSp>
      <p:sp>
        <p:nvSpPr>
          <p:cNvPr id="138" name=""/>
          <p:cNvSpPr/>
          <p:nvPr/>
        </p:nvSpPr>
        <p:spPr>
          <a:xfrm>
            <a:off x="2638440" y="3998880"/>
            <a:ext cx="1544760" cy="592200"/>
          </a:xfrm>
          <a:custGeom>
            <a:avLst/>
            <a:gdLst/>
            <a:ahLst/>
            <a:rect l="l" t="t" r="r" b="b"/>
            <a:pathLst>
              <a:path w="973" h="373">
                <a:moveTo>
                  <a:pt x="972" y="373"/>
                </a:moveTo>
                <a:cubicBezTo>
                  <a:pt x="958" y="321"/>
                  <a:pt x="973" y="122"/>
                  <a:pt x="888" y="61"/>
                </a:cubicBezTo>
                <a:cubicBezTo>
                  <a:pt x="803" y="0"/>
                  <a:pt x="610" y="2"/>
                  <a:pt x="462" y="7"/>
                </a:cubicBezTo>
                <a:cubicBezTo>
                  <a:pt x="314" y="12"/>
                  <a:pt x="96" y="74"/>
                  <a:pt x="0" y="91"/>
                </a:cubicBezTo>
              </a:path>
            </a:pathLst>
          </a:custGeom>
          <a:noFill/>
          <a:ln w="19080">
            <a:solidFill>
              <a:srgbClr val="3333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392720" y="3990960"/>
            <a:ext cx="1666800" cy="601560"/>
          </a:xfrm>
          <a:custGeom>
            <a:avLst/>
            <a:gdLst/>
            <a:ahLst/>
            <a:rect l="l" t="t" r="r" b="b"/>
            <a:pathLst>
              <a:path w="1050" h="379">
                <a:moveTo>
                  <a:pt x="0" y="379"/>
                </a:moveTo>
                <a:cubicBezTo>
                  <a:pt x="14" y="332"/>
                  <a:pt x="6" y="159"/>
                  <a:pt x="84" y="97"/>
                </a:cubicBezTo>
                <a:cubicBezTo>
                  <a:pt x="162" y="35"/>
                  <a:pt x="307" y="0"/>
                  <a:pt x="468" y="7"/>
                </a:cubicBezTo>
                <a:cubicBezTo>
                  <a:pt x="629" y="14"/>
                  <a:pt x="929" y="112"/>
                  <a:pt x="1050" y="139"/>
                </a:cubicBezTo>
              </a:path>
            </a:pathLst>
          </a:custGeom>
          <a:noFill/>
          <a:ln w="19080">
            <a:solidFill>
              <a:srgbClr val="3333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610000" y="3733920"/>
            <a:ext cx="3495600" cy="342720"/>
          </a:xfrm>
          <a:custGeom>
            <a:avLst/>
            <a:gdLst/>
            <a:ahLst/>
            <a:rect l="l" t="t" r="r" b="b"/>
            <a:pathLst>
              <a:path w="2202" h="216">
                <a:moveTo>
                  <a:pt x="2202" y="216"/>
                </a:moveTo>
                <a:cubicBezTo>
                  <a:pt x="2076" y="185"/>
                  <a:pt x="1710" y="60"/>
                  <a:pt x="1446" y="30"/>
                </a:cubicBezTo>
                <a:cubicBezTo>
                  <a:pt x="1182" y="0"/>
                  <a:pt x="859" y="10"/>
                  <a:pt x="618" y="36"/>
                </a:cubicBezTo>
                <a:cubicBezTo>
                  <a:pt x="377" y="62"/>
                  <a:pt x="129" y="155"/>
                  <a:pt x="0" y="186"/>
                </a:cubicBezTo>
              </a:path>
            </a:pathLst>
          </a:custGeom>
          <a:noFill/>
          <a:ln w="19080">
            <a:solidFill>
              <a:srgbClr val="3333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394000" y="98100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依存性注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019640" y="3789360"/>
            <a:ext cx="115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6588000" y="4005360"/>
            <a:ext cx="43200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36680" y="3429000"/>
            <a:ext cx="1857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コンポーネント生成順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コンテナ任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3276720" y="1916280"/>
            <a:ext cx="3024000" cy="18730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動作イメー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コンポーネントを取得して処理を実行す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17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設定ファイルを元にコンテナ生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テナ初期化でコンポーネントを組み合わせ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処理の先頭となるコンポーネントを取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処理を実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5. 3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、または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み繰り返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564000" y="2492280"/>
            <a:ext cx="431640" cy="360360"/>
          </a:xfrm>
          <a:prstGeom prst="rect">
            <a:avLst/>
          </a:prstGeom>
          <a:solidFill>
            <a:srgbClr val="b3e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500720" y="2205000"/>
            <a:ext cx="431640" cy="360360"/>
          </a:xfrm>
          <a:prstGeom prst="rect">
            <a:avLst/>
          </a:prstGeom>
          <a:solidFill>
            <a:srgbClr val="b3e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979640" y="2492280"/>
            <a:ext cx="1009800" cy="360360"/>
          </a:xfrm>
          <a:prstGeom prst="rect">
            <a:avLst/>
          </a:prstGeom>
          <a:solidFill>
            <a:srgbClr val="b3e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m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476360" y="2676600"/>
            <a:ext cx="50328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3"/>
            <a:endCxn id="148" idx="1"/>
          </p:cNvCxnSpPr>
          <p:nvPr/>
        </p:nvCxnSpPr>
        <p:spPr>
          <a:xfrm>
            <a:off x="2989440" y="2673000"/>
            <a:ext cx="575280" cy="108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lg" type="arrow" w="lg"/>
          </a:ln>
        </p:spPr>
      </p:cxnSp>
      <p:cxnSp>
        <p:nvCxnSpPr>
          <p:cNvPr id="153" name=""/>
          <p:cNvCxnSpPr>
            <a:stCxn id="148" idx="3"/>
            <a:endCxn id="154" idx="1"/>
          </p:cNvCxnSpPr>
          <p:nvPr/>
        </p:nvCxnSpPr>
        <p:spPr>
          <a:xfrm>
            <a:off x="3995640" y="2673360"/>
            <a:ext cx="866160" cy="65016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lg" type="arrow" w="lg"/>
          </a:ln>
        </p:spPr>
      </p:cxnSp>
      <p:cxnSp>
        <p:nvCxnSpPr>
          <p:cNvPr id="155" name=""/>
          <p:cNvCxnSpPr>
            <a:stCxn id="148" idx="3"/>
            <a:endCxn id="149" idx="1"/>
          </p:cNvCxnSpPr>
          <p:nvPr/>
        </p:nvCxnSpPr>
        <p:spPr>
          <a:xfrm flipV="1">
            <a:off x="3995280" y="2385720"/>
            <a:ext cx="505800" cy="2880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lg" type="arrow" w="lg"/>
          </a:ln>
        </p:spPr>
      </p:cxnSp>
      <p:sp>
        <p:nvSpPr>
          <p:cNvPr id="156" name=""/>
          <p:cNvSpPr/>
          <p:nvPr/>
        </p:nvSpPr>
        <p:spPr>
          <a:xfrm>
            <a:off x="7021440" y="2349360"/>
            <a:ext cx="576360" cy="503280"/>
          </a:xfrm>
          <a:prstGeom prst="can">
            <a:avLst>
              <a:gd name="adj" fmla="val 250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7" name=""/>
          <p:cNvCxnSpPr>
            <a:stCxn id="158" idx="3"/>
            <a:endCxn id="156" idx="2"/>
          </p:cNvCxnSpPr>
          <p:nvPr/>
        </p:nvCxnSpPr>
        <p:spPr>
          <a:xfrm>
            <a:off x="5940000" y="2601720"/>
            <a:ext cx="1081800" cy="108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lg" type="arrow" w="lg"/>
          </a:ln>
        </p:spPr>
      </p:cxnSp>
      <p:sp>
        <p:nvSpPr>
          <p:cNvPr id="154" name=""/>
          <p:cNvSpPr/>
          <p:nvPr/>
        </p:nvSpPr>
        <p:spPr>
          <a:xfrm>
            <a:off x="4861080" y="3141720"/>
            <a:ext cx="431640" cy="360360"/>
          </a:xfrm>
          <a:prstGeom prst="rect">
            <a:avLst/>
          </a:prstGeom>
          <a:solidFill>
            <a:srgbClr val="b3e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2556000" y="2133000"/>
            <a:ext cx="722160" cy="360360"/>
          </a:xfrm>
          <a:custGeom>
            <a:avLst/>
            <a:gdLst/>
            <a:ahLst/>
            <a:rect l="l" t="t" r="r" b="b"/>
            <a:pathLst>
              <a:path w="455" h="334">
                <a:moveTo>
                  <a:pt x="8" y="0"/>
                </a:moveTo>
                <a:cubicBezTo>
                  <a:pt x="19" y="47"/>
                  <a:pt x="0" y="228"/>
                  <a:pt x="74" y="281"/>
                </a:cubicBezTo>
                <a:cubicBezTo>
                  <a:pt x="142" y="334"/>
                  <a:pt x="376" y="313"/>
                  <a:pt x="455" y="32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508720" y="2421000"/>
            <a:ext cx="431640" cy="360360"/>
          </a:xfrm>
          <a:prstGeom prst="rect">
            <a:avLst/>
          </a:prstGeom>
          <a:solidFill>
            <a:srgbClr val="b3e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0" name=""/>
          <p:cNvCxnSpPr>
            <a:stCxn id="149" idx="3"/>
            <a:endCxn id="158" idx="1"/>
          </p:cNvCxnSpPr>
          <p:nvPr/>
        </p:nvCxnSpPr>
        <p:spPr>
          <a:xfrm>
            <a:off x="4932000" y="2386080"/>
            <a:ext cx="577080" cy="21672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lg" type="arrow" w="lg"/>
          </a:ln>
        </p:spPr>
      </p:cxnSp>
      <p:sp>
        <p:nvSpPr>
          <p:cNvPr id="161" name=""/>
          <p:cNvSpPr/>
          <p:nvPr/>
        </p:nvSpPr>
        <p:spPr>
          <a:xfrm>
            <a:off x="2354400" y="1844640"/>
            <a:ext cx="40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333399"/>
                </a:solidFill>
                <a:latin typeface="Arial"/>
              </a:rPr>
              <a:t>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938760" y="1989000"/>
            <a:ext cx="40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333399"/>
                </a:solidFill>
                <a:latin typeface="Arial"/>
              </a:rPr>
              <a:t>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282760" y="3284640"/>
            <a:ext cx="40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333399"/>
                </a:solidFill>
                <a:latin typeface="Arial"/>
              </a:rPr>
              <a:t>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075120" y="2637000"/>
            <a:ext cx="40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333399"/>
                </a:solidFill>
                <a:latin typeface="Arial"/>
              </a:rPr>
              <a:t>④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5" name=""/>
          <p:cNvCxnSpPr>
            <a:stCxn id="149" idx="0"/>
            <a:endCxn id="148" idx="0"/>
          </p:cNvCxnSpPr>
          <p:nvPr/>
        </p:nvCxnSpPr>
        <p:spPr>
          <a:xfrm rot="5400000">
            <a:off x="4103640" y="1880280"/>
            <a:ext cx="288000" cy="937080"/>
          </a:xfrm>
          <a:prstGeom prst="curvedConnector5">
            <a:avLst>
              <a:gd name="adj1" fmla="val -79474"/>
              <a:gd name="adj2" fmla="val 50000"/>
              <a:gd name="adj3" fmla="val -79474"/>
            </a:avLst>
          </a:prstGeom>
          <a:ln w="9360">
            <a:solidFill>
              <a:srgbClr val="333399"/>
            </a:solidFill>
            <a:miter/>
            <a:tailEnd len="lg" type="triangle" w="lg"/>
          </a:ln>
        </p:spPr>
      </p:cxnSp>
      <p:cxnSp>
        <p:nvCxnSpPr>
          <p:cNvPr id="166" name=""/>
          <p:cNvCxnSpPr>
            <a:stCxn id="158" idx="0"/>
            <a:endCxn id="149" idx="0"/>
          </p:cNvCxnSpPr>
          <p:nvPr/>
        </p:nvCxnSpPr>
        <p:spPr>
          <a:xfrm flipV="1" rot="16200000">
            <a:off x="5112000" y="1808280"/>
            <a:ext cx="216720" cy="1008720"/>
          </a:xfrm>
          <a:prstGeom prst="curvedConnector5">
            <a:avLst>
              <a:gd name="adj1" fmla="val 205823"/>
              <a:gd name="adj2" fmla="val 49982"/>
              <a:gd name="adj3" fmla="val 205823"/>
            </a:avLst>
          </a:prstGeom>
          <a:ln w="9360">
            <a:solidFill>
              <a:srgbClr val="333399"/>
            </a:solidFill>
            <a:miter/>
            <a:tailEnd len="lg" type="triangle" w="lg"/>
          </a:ln>
        </p:spPr>
      </p:cxnSp>
      <p:cxnSp>
        <p:nvCxnSpPr>
          <p:cNvPr id="167" name=""/>
          <p:cNvCxnSpPr>
            <a:stCxn id="154" idx="2"/>
            <a:endCxn id="148" idx="2"/>
          </p:cNvCxnSpPr>
          <p:nvPr/>
        </p:nvCxnSpPr>
        <p:spPr>
          <a:xfrm flipV="1" rot="16200000">
            <a:off x="4103280" y="2528280"/>
            <a:ext cx="650160" cy="1297440"/>
          </a:xfrm>
          <a:prstGeom prst="curvedConnector5">
            <a:avLst>
              <a:gd name="adj1" fmla="val -34958"/>
              <a:gd name="adj2" fmla="val 49986"/>
              <a:gd name="adj3" fmla="val -34958"/>
            </a:avLst>
          </a:prstGeom>
          <a:ln w="9360">
            <a:solidFill>
              <a:srgbClr val="333399"/>
            </a:solidFill>
            <a:miter/>
            <a:tailEnd len="lg" type="triangle" w="lg"/>
          </a:ln>
        </p:spPr>
      </p:cxnSp>
      <p:sp>
        <p:nvSpPr>
          <p:cNvPr id="168" name=""/>
          <p:cNvSpPr/>
          <p:nvPr/>
        </p:nvSpPr>
        <p:spPr>
          <a:xfrm>
            <a:off x="2475000" y="2852640"/>
            <a:ext cx="801720" cy="647640"/>
          </a:xfrm>
          <a:custGeom>
            <a:avLst/>
            <a:gdLst/>
            <a:ahLst/>
            <a:rect l="l" t="t" r="r" b="b"/>
            <a:pathLst>
              <a:path w="505" h="408">
                <a:moveTo>
                  <a:pt x="6" y="0"/>
                </a:moveTo>
                <a:cubicBezTo>
                  <a:pt x="19" y="56"/>
                  <a:pt x="0" y="269"/>
                  <a:pt x="83" y="337"/>
                </a:cubicBezTo>
                <a:cubicBezTo>
                  <a:pt x="166" y="405"/>
                  <a:pt x="417" y="393"/>
                  <a:pt x="505" y="408"/>
                </a:cubicBezTo>
              </a:path>
            </a:pathLst>
          </a:custGeom>
          <a:noFill/>
          <a:ln w="9360">
            <a:solidFill>
              <a:srgbClr val="ff505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557440" y="2844720"/>
            <a:ext cx="1092240" cy="598680"/>
          </a:xfrm>
          <a:custGeom>
            <a:avLst/>
            <a:gdLst/>
            <a:ahLst/>
            <a:rect l="l" t="t" r="r" b="b"/>
            <a:pathLst>
              <a:path w="688" h="377">
                <a:moveTo>
                  <a:pt x="688" y="0"/>
                </a:moveTo>
                <a:cubicBezTo>
                  <a:pt x="664" y="55"/>
                  <a:pt x="644" y="277"/>
                  <a:pt x="546" y="327"/>
                </a:cubicBezTo>
                <a:cubicBezTo>
                  <a:pt x="448" y="377"/>
                  <a:pt x="191" y="356"/>
                  <a:pt x="102" y="301"/>
                </a:cubicBezTo>
                <a:cubicBezTo>
                  <a:pt x="0" y="230"/>
                  <a:pt x="33" y="63"/>
                  <a:pt x="15" y="0"/>
                </a:cubicBezTo>
              </a:path>
            </a:pathLst>
          </a:custGeom>
          <a:noFill/>
          <a:ln w="19080">
            <a:solidFill>
              <a:srgbClr val="ff505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042920" y="306864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唯一コンテナを意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4859280" y="3884760"/>
            <a:ext cx="1584360" cy="264960"/>
          </a:xfrm>
          <a:prstGeom prst="rect">
            <a:avLst/>
          </a:prstGeom>
          <a:solidFill>
            <a:srgbClr val="d9d9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ポーネントを直接取得す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28600" y="1258920"/>
            <a:ext cx="8664480" cy="52102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EmployeeViewer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static void main(String[] args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// S2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コンテナ初期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2Container container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2ContainerFactory.create("path/viewer.dicon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ontainer.init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// 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一連の処理の先頭となる業務ロジック取得（組み合わせ済み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EmployeeLogic logic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(EmployeeLogic) container.getComponent(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EmployeeLogic.class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List employees =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ＭＳ ゴシック"/>
                <a:ea typeface="ＭＳ ゴシック"/>
              </a:rPr>
              <a:t>logic.find("</a:t>
            </a:r>
            <a:r>
              <a:rPr b="0" lang="ja-JP" sz="2000" spc="-1" strike="noStrike" u="sng">
                <a:solidFill>
                  <a:srgbClr val="000000"/>
                </a:solidFill>
                <a:uFillTx/>
                <a:latin typeface="ＭＳ ゴシック"/>
                <a:ea typeface="ＭＳ ゴシック"/>
              </a:rPr>
              <a:t>条件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ＭＳ ゴシック"/>
                <a:ea typeface="ＭＳ ゴシック"/>
              </a:rPr>
              <a:t>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Iterator ite = employees.iterator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while (ite.hasNext()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ystem.out.println(ite.next()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interface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と実装を分離するメリットを得られ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再利用しやす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テストしやす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メンテナンスしやす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コンテナ特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設定しやす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テナを使うメリッ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6T13:58:08Z</dcterms:created>
  <dc:creator>suga</dc:creator>
  <dc:description/>
  <dc:language>en-US</dc:language>
  <cp:lastModifiedBy>suga</cp:lastModifiedBy>
  <dcterms:modified xsi:type="dcterms:W3CDTF">2004-11-20T21:40:32Z</dcterms:modified>
  <cp:revision>868</cp:revision>
  <dc:subject/>
  <dc:title>はじめてのSeasar2 DIコンテナ+AOP超入門</dc:title>
</cp:coreProperties>
</file>