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C908-666E-4349-BDCD-7357E1944825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00E4-06F6-478F-AEFA-05986DAC7D5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981080"/>
            <a:ext cx="838188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display-name&gt;S2Struts Application&lt;/display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name&gt;s2container&lt;/servlet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Struts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536920"/>
            <a:ext cx="830592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ntroller processorClass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RequestProcessor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上で、実装は終わ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行時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が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サービスコンポーネントを自動で設定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インジェ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375000"/>
            <a:ext cx="7772400" cy="3485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ストラクタ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905120"/>
            <a:ext cx="8305920" cy="487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ddServi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org.seasar.struts.examples.AddServiceImpl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スペクトを適用したい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アスペクトを適用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追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308320"/>
            <a:ext cx="8305920" cy="440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lass="org.seasar.struts.examples.MultiplyActio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aspect pointcut="execut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component class=</a:t>
            </a:r>
            <a:br>
              <a:rPr sz="2000"/>
            </a:b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"org.seasar.framework.aop.interceptors.TraceIntercepto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インスタンス変数を持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属性の変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ノーマ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インスタンス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プーリングし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内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で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90512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nstance="prototyp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"org.seasar.struts.examples.AddAction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ーワー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の初期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手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出来る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クラス名ではなく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特定し、処理を委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同じクラス名を定義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同期する必要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type="org.seasar.struts.ProxyAction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Subtract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990720"/>
            <a:ext cx="7772400" cy="7716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throws Exception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delegateAction = createAction(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delegateAction.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Action createAction(ActionMapping mapping)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omponentNameCreator componentNameCreator 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(ComponentNameCreator) container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.getComponent(ComponentNameCreator.class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String componentName =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omponentNameCreator.createComponentName(container,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                  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action = ActionUtil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createActionWithComponentName(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componentName, getServlet()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action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同様に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を記述する必要は無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だし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来の使用方法には違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type="org.seasar.struts.ProxyAction"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←不要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Divide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につ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フォルトは①モジュール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②の優先順位で、コンポーネントを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homepage3.nifty.com/seasar/s2struts.html#Mapping</a:t>
            </a:r>
            <a:br>
              <a:rPr sz="20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ComponentNameCreator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mp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したクラスを、コンテナに登録することで、マッピング方法を変更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記述するサーブレット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apache.struts.action.Action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はなく、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S2ActionServ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917800"/>
            <a:ext cx="7772400" cy="344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name&gt;action&lt;/servlet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Action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対して、アスペクトなどを適用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689200"/>
            <a:ext cx="7772400" cy="31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class="org.seasar.struts.S2RequestProcessor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spect pointcut="process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component class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"org.seasar.struts.examples.MeasureTimeInterceptor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spec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componen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適用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"S2Struts"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レゼンテーション層の一つ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簡単に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にサービスコンポーネントが自動的に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はコントローラに徹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等に対してアスペクトを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名前、パスを変更したい場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828800"/>
            <a:ext cx="8381880" cy="453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org.seasar.struts.S2StrutsServlet&lt;/servlet-cla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&lt;param-name&gt;configPath&lt;/param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param-value&gt;org/seasar/struts/config.dicon&lt;/param-valu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サイト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homepage3.nifty.com/seasar/s2strut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あ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適用している箇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ている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作成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460600"/>
            <a:ext cx="777240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erface AddServic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Impl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ServiceImpl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mplements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arg1 + arg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981080"/>
            <a:ext cx="8153640" cy="5181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culationForm calForm = (CalculationForm) fo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t result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add(calForm.getArg1(), calForm.getArg2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Form.setResult(resul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(mapping.findForward("success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をコンポーネント定義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後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.dic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84148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ServiceImpl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dd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536920"/>
            <a:ext cx="8305920" cy="1631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/seasar/struts/examples/Add.dic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atoshi Kimura</dc:creator>
  <dc:description/>
  <dc:language>en-US</dc:language>
  <cp:lastModifiedBy>木村　聡</cp:lastModifiedBy>
  <dcterms:modified xsi:type="dcterms:W3CDTF">2004-11-16T01:50:57Z</dcterms:modified>
  <cp:revision>119</cp:revision>
  <dc:subject/>
  <dc:title>S2Struts超入門</dc:title>
</cp:coreProperties>
</file>