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1280" y="-1440"/>
            <a:ext cx="2916360" cy="13428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EF254-C41C-49D1-9174-B295EA30A29E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600360" cy="1657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0B036-2BB5-49E3-BE77-CF24E6E65734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aopalliance.sourceforge.net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463840"/>
            <a:ext cx="7772400" cy="15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000000"/>
                </a:solidFill>
                <a:latin typeface="Arial"/>
              </a:rPr>
              <a:t>ダイコン白書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771280" y="5229360"/>
            <a:ext cx="596916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ロジェクト主催 “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からさわぎ”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オリジナル栗原 傑享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asataka Kurihar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抽象クラス・インターフェイスの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特徴的な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インターフェイス・抽象クラ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普通にはインスタンス化でき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内部で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opProx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がバイトコードエンジニアリングによって拡張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nhance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クラス生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4508640"/>
            <a:ext cx="760428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sample.org.seasar.Speaker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sample.org.seasar.HelloInterceptor“/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2997360"/>
            <a:ext cx="760572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HelloInterceptor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MethodIntercepto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Object invoke(MethodInvocation invocation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ow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57600" y="3789360"/>
            <a:ext cx="516420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MethodInvocation#proceed(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呼ばなければ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利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機能をコンテナ機能として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をシンプルに行え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エレメントを記述するの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りかく易し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しなければならな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インターフェイスが１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にどんな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e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適用されるのかが明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インターフェイスや抽象クラスを実装でき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オブジェクトパターンを利用でき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3640" y="1270080"/>
            <a:ext cx="5616360" cy="52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グラミングを行う対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本質的な関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アプリケーション固有の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クラス固有の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でない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横断的な関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複数アプリケーションで出現する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複数クラスで出現する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な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関心の分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開発要件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へ分け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35280" y="2060640"/>
            <a:ext cx="22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56000" y="378936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40360" y="1413000"/>
            <a:ext cx="3024360" cy="1439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開発要件として都度開発。ビジネスロジックとして、おそらく他に流用が聞かない部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40360" y="3213000"/>
            <a:ext cx="3024360" cy="2089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あらかじめフレームワーク的に用意されている機能か、繰り返し用いられてるロジックを抽出すると見えてくる。多分にシステムロジック的な内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64000" y="6093000"/>
            <a:ext cx="505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940360" y="5734080"/>
            <a:ext cx="3024360" cy="7038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OP (Aspect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Oriented Programinng</a:t>
            </a: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メリッ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関心の分離を行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を分け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クラス・バイナリとしても分か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複数の「関心」から成る場合も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再利用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「横断的」であることから、再利用性そのもので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要件からシステム的機能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排出し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、シンプルな技術で実現さ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JO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27640" y="5589720"/>
            <a:ext cx="4537080" cy="6422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JO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in Old Java Obj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lain Old=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平凡な」を意味するイディオ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キーとなる用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ointcut &amp; MethodInterce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は設定項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ethodInvocatio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集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は設定項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再利用可能な実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ユーザー実装もしくは、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プラグイン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org.aopalliance.intercept.MethodInterceptor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インターフェイスを実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ethodInv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との接続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ethodInterceptor#invoke(MethodInvocation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メソッドの引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OP All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aopalliance.sourceforge.ne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標準化のためのプロジェク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g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バイトコードエンジニアリングのためのライブラ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定義の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の子要素として定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ポーネント定義者が明示的に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設定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属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ボディでコンポーネント名もしくは子要素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タグで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指定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属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カンマ区切りで、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対象になるコンポーネントのメソッド名を列挙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トークンごとに、正規表現を使用可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属性を指定しない場合は、コンポーネントが実装しているインターフェースのすべてのメソッドが対象にな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一つ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複数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出現順序が動作に影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1557360"/>
            <a:ext cx="8424720" cy="475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async" class="tutorial.org.seasar.console.AsyncCallAdvice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"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ointcu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[a-z]{3}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org.seasar.shellscript.S2ShellAdvice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sample/org/seasar/shellscript/sample.dicon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ointcu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un, init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sync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4920" y="5646600"/>
            <a:ext cx="5329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initc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をカンマ区切りで複数トークン指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74920" y="6149880"/>
            <a:ext cx="5329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aspect&g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レメントボディにコンポーネント名で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4920" y="4249800"/>
            <a:ext cx="532944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aspect&g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子要素の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&g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タグで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MethodInterceptor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定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3716280"/>
            <a:ext cx="5329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initc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に正規表現を利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58920" y="980640"/>
            <a:ext cx="758016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、実行時期で二分され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ethodInvocation#proceed(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呼ぶ前と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呼ぶ前は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読んだ後は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2565360"/>
            <a:ext cx="7369200" cy="381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ABS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implement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MethodInterceptor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Object invoke(MethodInvocation invocation)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throw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Throw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Ooops, danger!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Object ret = invocation.proceed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kikikiki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re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74880" y="3645000"/>
            <a:ext cx="5834160" cy="433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Ooops, danger!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74880" y="4654440"/>
            <a:ext cx="5832720" cy="4320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kikikiki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47920" y="386064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486900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3880" y="364500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0560" y="4653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スタッ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登録順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部分が実行され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最後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部分を実行した後にコンポーネント自身のメソッドが呼び出され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登録の逆順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部分が実行され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トランザクション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T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 Extension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パッケー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透明なサービ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のみでユーザーコードに何も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x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関連のコーディングを行わなくてよ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98800" y="4005360"/>
            <a:ext cx="6505560" cy="224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j2ee.dicon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TxCar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2ee.requiredTx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09880" y="5734080"/>
            <a:ext cx="49388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spec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x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terceptor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記述するだ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4-07-15T10:28:44Z</dcterms:modified>
  <cp:revision>53</cp:revision>
  <dc:subject/>
  <dc:title>スライド 1</dc:title>
</cp:coreProperties>
</file>