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E659-BFCF-4E54-B03A-F3DDDD9F0405}"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28:07Z</dcterms:modified>
  <cp:revision>14</cp:revision>
  <dc:subject/>
  <dc:title>スライド 1</dc:title>
</cp:coreProperties>
</file>