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D48B-F1A0-4108-A4EA-DCEDD7685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1364-E6C3-4ECD-BCD1-47EADBBC8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E029-BA5A-411D-A655-E188464D7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8A41-CC50-400A-8644-D48AD4A3A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1A7F-30F3-4D56-957E-A98F00D84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E9AC-AFEB-4B84-8535-1EFCC917B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3833-3ECC-4749-A467-3009E26FC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80D6-2B6F-485B-848A-853074AB8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511D-40B3-441E-9721-D5CA68796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52B6-D4D1-4BA1-8E36-912847A50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BB05-2DF2-4877-A37A-16E008A14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EDE0-97E1-4558-BC33-0CECAE154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91435-5D89-44A3-9893-AC722037CC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の受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1341360"/>
            <a:ext cx="835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90792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9280" y="141300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TS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87280" y="260280"/>
            <a:ext cx="1440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CommRece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076720" y="620640"/>
            <a:ext cx="2303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51280" y="549360"/>
            <a:ext cx="115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284720" y="62064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v-&gt;InBuf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79640" y="83664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v(s, buf, len, 0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076720" y="549360"/>
            <a:ext cx="2303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580000" y="333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024)by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68360" y="549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24360" y="620640"/>
            <a:ext cx="935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32240" y="655560"/>
            <a:ext cx="3192120" cy="469800"/>
          </a:xfrm>
          <a:custGeom>
            <a:avLst/>
            <a:gdLst/>
            <a:ahLst/>
            <a:rect l="l" t="t" r="r" b="b"/>
            <a:pathLst>
              <a:path w="2154" h="311">
                <a:moveTo>
                  <a:pt x="106" y="205"/>
                </a:moveTo>
                <a:cubicBezTo>
                  <a:pt x="53" y="125"/>
                  <a:pt x="0" y="46"/>
                  <a:pt x="151" y="23"/>
                </a:cubicBezTo>
                <a:cubicBezTo>
                  <a:pt x="302" y="0"/>
                  <a:pt x="711" y="23"/>
                  <a:pt x="1013" y="69"/>
                </a:cubicBezTo>
                <a:cubicBezTo>
                  <a:pt x="1315" y="115"/>
                  <a:pt x="1776" y="281"/>
                  <a:pt x="1965" y="296"/>
                </a:cubicBezTo>
                <a:cubicBezTo>
                  <a:pt x="2154" y="311"/>
                  <a:pt x="2150" y="235"/>
                  <a:pt x="2147" y="15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24360" y="981000"/>
            <a:ext cx="935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12000" y="981000"/>
            <a:ext cx="3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16000" y="148428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Xrecv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116000" y="206064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KT_recv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35280" y="17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68360" y="1125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0000" y="558972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0000" y="566100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356000" y="6308640"/>
            <a:ext cx="309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buflen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sz="1000" spc="-1" strike="noStrike">
                <a:solidFill>
                  <a:srgbClr val="000000"/>
                </a:solidFill>
                <a:latin typeface="Arial"/>
              </a:rPr>
              <a:t>READAMOU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 = 128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780000" y="6237360"/>
            <a:ext cx="4537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780000" y="558972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780000" y="544500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00720" y="5157720"/>
            <a:ext cx="165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data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55640" y="6165720"/>
            <a:ext cx="2448000" cy="503280"/>
          </a:xfrm>
          <a:prstGeom prst="wedgeRoundRectCallout">
            <a:avLst>
              <a:gd name="adj1" fmla="val 75745"/>
              <a:gd name="adj2" fmla="val -9100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v(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で受信し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実パケット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4000" y="5157720"/>
            <a:ext cx="165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data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35280" y="530064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780000" y="5300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508720" y="4797360"/>
            <a:ext cx="287280" cy="287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780000" y="429264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780000" y="429264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780000" y="4292640"/>
            <a:ext cx="2087280" cy="36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3789360"/>
            <a:ext cx="165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08000" y="3933720"/>
            <a:ext cx="20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24360" y="3933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92436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78800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24360" y="4149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95640" y="3860640"/>
            <a:ext cx="2017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780000" y="4724280"/>
            <a:ext cx="208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067280" y="4797360"/>
            <a:ext cx="129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otal_packet_s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435640" y="3429000"/>
            <a:ext cx="287280" cy="287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780000" y="278136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780000" y="278136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780000" y="2781360"/>
            <a:ext cx="2087280" cy="36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24360" y="27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788000" y="27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138560" y="2781360"/>
            <a:ext cx="647640" cy="3603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67280" y="2276640"/>
            <a:ext cx="24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_data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140360" y="2637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708360" y="184464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_data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24360" y="2637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027320" y="2060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824120" y="2349360"/>
            <a:ext cx="2651040" cy="1187640"/>
          </a:xfrm>
          <a:custGeom>
            <a:avLst/>
            <a:gdLst/>
            <a:ahLst/>
            <a:rect l="l" t="t" r="r" b="b"/>
            <a:pathLst>
              <a:path w="1670" h="748">
                <a:moveTo>
                  <a:pt x="53" y="0"/>
                </a:moveTo>
                <a:cubicBezTo>
                  <a:pt x="26" y="189"/>
                  <a:pt x="0" y="378"/>
                  <a:pt x="189" y="499"/>
                </a:cubicBezTo>
                <a:cubicBezTo>
                  <a:pt x="378" y="620"/>
                  <a:pt x="953" y="702"/>
                  <a:pt x="1187" y="725"/>
                </a:cubicBezTo>
                <a:cubicBezTo>
                  <a:pt x="1421" y="748"/>
                  <a:pt x="1520" y="688"/>
                  <a:pt x="1595" y="635"/>
                </a:cubicBezTo>
                <a:cubicBezTo>
                  <a:pt x="1670" y="582"/>
                  <a:pt x="1655" y="495"/>
                  <a:pt x="1640" y="4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4360" y="4437000"/>
            <a:ext cx="2447640" cy="576360"/>
          </a:xfrm>
          <a:prstGeom prst="wedgeRoundRectCallout">
            <a:avLst>
              <a:gd name="adj1" fmla="val 75745"/>
              <a:gd name="adj2" fmla="val -48347"/>
              <a:gd name="adj3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つ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を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8000" y="2924280"/>
            <a:ext cx="1800000" cy="576000"/>
          </a:xfrm>
          <a:prstGeom prst="wedgeRoundRectCallout">
            <a:avLst>
              <a:gd name="adj1" fmla="val 74513"/>
              <a:gd name="adj2" fmla="val 13083"/>
              <a:gd name="adj3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で渡されてきたプレーンデータを返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8-17T15:12:43Z</dcterms:modified>
  <cp:revision>343</cp:revision>
  <dc:subject/>
  <dc:title>DDEのしくみ</dc:title>
</cp:coreProperties>
</file>