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5BB1-871F-449B-B18C-FFF2EAE88F24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85974-C176-4DE6-945B-0620C3EC635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BDE5-C163-451E-B9DD-741A6ABFE87E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9C10A-C28B-49A9-9AB9-3E916F56D62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21AF4-06FD-4C40-ADF4-597E884A978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5387-BCBA-4F69-B99B-CF39A4EFB615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3215-47A2-4AD2-B21D-EAF70361FE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A451-ECD5-43DE-AC19-6B9B23BA55FA}" type="slidenum">
              <a:rPr b="0" lang="en-GB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6310-402B-4E2F-B356-4D5BEF271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B4A-85AB-41FF-A4D2-796B1534D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75FC-62DF-4087-BE8B-C9F7AEC8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40CD-4DE7-4ED0-A3E2-9B3A8BF8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43F-1ACB-4A28-B927-0E843ABAB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6481-8996-43CA-95F0-CD77F8746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9D99-C8B5-423C-A6DA-A84A1D6BD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0431-5B6C-4222-964E-0E1CA6F1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9D57-A529-4233-B490-E58C8739C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1E1D-9D27-494C-AA62-C89AC55D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02AA-447C-47B4-9D17-01C9E2E7D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022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58800" y="207936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456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022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58800" y="4287600"/>
            <a:ext cx="272016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4E42-FE74-4F28-A04F-C8E136F2A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45600" y="1279440"/>
            <a:ext cx="8448840" cy="322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428760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560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2079360"/>
            <a:ext cx="412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45600" y="4287600"/>
            <a:ext cx="84488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600" y="2079360"/>
            <a:ext cx="8448840" cy="422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7" descr="ENU_Logo_be0f34.png"/>
          <p:cNvPicPr/>
          <p:nvPr/>
        </p:nvPicPr>
        <p:blipFill>
          <a:blip r:embed="rId2"/>
          <a:stretch/>
        </p:blipFill>
        <p:spPr>
          <a:xfrm>
            <a:off x="6594480" y="352440"/>
            <a:ext cx="2200320" cy="549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27/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CSN11109 - Lecture 2: Storage De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60E9-27E9-40A9-8488-B1181AFF2486}" type="slidenum">
              <a:rPr b="0" lang="en-GB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SN08101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igital Forensics</a:t>
            </a:r>
            <a:br>
              <a:rPr sz="32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ecture 8: File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ule Leader: Dr Gordon Russ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urers: Robert Ludwini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Encryption Key Encryp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2"/>
          <p:cNvSpPr/>
          <p:nvPr/>
        </p:nvSpPr>
        <p:spPr>
          <a:xfrm>
            <a:off x="393840" y="2419200"/>
            <a:ext cx="847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encrypted with user’s public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K is decrypted with user’s private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policy allows it, FEK is also encrypted with public key of recovery agent (and decrypted with private key of recovery age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FS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334800" y="2233440"/>
            <a:ext cx="848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y default a user’s private key is stored in the Windows registry, encrypted with login password as k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Login password is susceptible to brute force attack and private key might be comprom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FS creates a temporary file (EFS0.TMP) with plaintext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Marks it as deleted when finished but doesn’t actually erase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334800" y="2489040"/>
            <a:ext cx="8439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added to a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troduced to support Macintosh files that have a data and resource f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most impossible to detect with normal file browsing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favourite of hackers and crimi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45600" y="2349360"/>
            <a:ext cx="8448840" cy="39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s that store file system administrativ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not confuse with file meta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16 MFT entries reserved for files that describe the file system listed in the roo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file begins with ‘$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28680" y="2046240"/>
          <a:ext cx="8381880" cy="4246560"/>
        </p:xfrm>
        <a:graphic>
          <a:graphicData uri="http://schemas.openxmlformats.org/drawingml/2006/table">
            <a:tbl>
              <a:tblPr/>
              <a:tblGrid>
                <a:gridCol w="1257120"/>
                <a:gridCol w="1886040"/>
                <a:gridCol w="52387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FT ent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Mir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up of the M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LogF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journal information for metadata transa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Volu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ume Information: label, identifier, ver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ribute information: identifier values, name, siz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ot directory of the files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allocation status for each clu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the boot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adCl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ains clusters that have bad secto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86920" y="8809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System Metadata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ter File Tab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324000" y="2233440"/>
            <a:ext cx="84502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very file and directory has at least one entry in th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entry is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1 KB i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Entry header is first 42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Remaining bytes stor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sident and Non-Resident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301680" y="2327400"/>
            <a:ext cx="8529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resident attribute stores its content in the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non-resident attribute stores its content in external clu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Non resident attributes are stored in cluster ru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attribute header gives the starting cluster address and its run leng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5600" y="869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ata Structure Categ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210960" y="1735200"/>
          <a:ext cx="8704440" cy="4795920"/>
        </p:xfrm>
        <a:graphic>
          <a:graphicData uri="http://schemas.openxmlformats.org/drawingml/2006/table">
            <a:tbl>
              <a:tblPr/>
              <a:tblGrid>
                <a:gridCol w="1451160"/>
                <a:gridCol w="1227240"/>
                <a:gridCol w="1171440"/>
                <a:gridCol w="1841400"/>
                <a:gridCol w="1562400"/>
                <a:gridCol w="1450800"/>
              </a:tblGrid>
              <a:tr h="938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Sys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a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e 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4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T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oot, $Volume, $AttrD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usters, 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MFT, $MFTMirr, $STANDARD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TION, $DATA, $ATTRIBUTE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ST, $SECURITY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P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FILE_NAME$IDX_ROOT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IDX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OCATION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k Quota, Journal, Change Jour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543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3" name="Object 2"/>
          <p:cNvGraphicFramePr/>
          <p:nvPr/>
        </p:nvGraphicFramePr>
        <p:xfrm>
          <a:off x="228600" y="2595600"/>
          <a:ext cx="8785080" cy="18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595600"/>
                    <a:ext cx="8785080" cy="18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428760" y="2430360"/>
            <a:ext cx="82296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entry has address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85640" y="226188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vestigativ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alysis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il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ight Brace 1"/>
          <p:cNvSpPr/>
          <p:nvPr/>
        </p:nvSpPr>
        <p:spPr>
          <a:xfrm>
            <a:off x="5473800" y="2371680"/>
            <a:ext cx="255600" cy="1714680"/>
          </a:xfrm>
          <a:custGeom>
            <a:avLst/>
            <a:gdLst>
              <a:gd name="textAreaLeft" fmla="*/ 0 w 255600"/>
              <a:gd name="textAreaRight" fmla="*/ 92160 w 255600"/>
              <a:gd name="textAreaTop" fmla="*/ 6480 h 1714680"/>
              <a:gd name="textAreaBottom" fmla="*/ 170820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5811840" y="302256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st wee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Recor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4"/>
          <p:cNvSpPr/>
          <p:nvPr/>
        </p:nvSpPr>
        <p:spPr>
          <a:xfrm>
            <a:off x="428760" y="2430360"/>
            <a:ext cx="8229600" cy="32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FT entry attributes are loosely def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attribute is preceded by the attribute 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ttribute header identif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1840" y="2260080"/>
            <a:ext cx="8448840" cy="373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-0x03: Magic Number: "FILE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-0x0f:  $LogFile Sequence Number (LS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2-0x13: Hard link 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Record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2200" y="2227320"/>
            <a:ext cx="8648640" cy="361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6-0x17: Flags: 0x01 record in use, 0x02 direc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2C-0x2F: (XP) Number of this MFT rec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10680" y="97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FT Header is always the sa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0 Attribute Type Identifi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4 Length of Attribu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8 non-resident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9 length of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a offset to 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x0c 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69360" y="66960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List of Possible Attribut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38280" y="161784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d in $AttrDef entry of MFT, but default 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TANDARD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2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ATTRIBUTE_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3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FILE_NAME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40 (NT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VERSION (2K) $OBJECT_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5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SECURITY_DESCRIP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6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7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VOLUME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8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9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R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A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INDEX_ALLO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B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BIT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C0 (NT) $SYMBOLIC_LINK, (2K) $REPARSE_PO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D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_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E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A0xF0NT$PROPERTY_S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x100(2K) $LOGGED_UTILITY_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7045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FT Attribut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1447920" y="2209680"/>
          <a:ext cx="6858000" cy="4267440"/>
        </p:xfrm>
        <a:graphic>
          <a:graphicData uri="http://schemas.openxmlformats.org/drawingml/2006/table">
            <a:tbl>
              <a:tblPr/>
              <a:tblGrid>
                <a:gridCol w="1114200"/>
                <a:gridCol w="600120"/>
                <a:gridCol w="600120"/>
                <a:gridCol w="4543560"/>
              </a:tblGrid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145"/>
          <p:cNvSpPr/>
          <p:nvPr/>
        </p:nvSpPr>
        <p:spPr>
          <a:xfrm>
            <a:off x="990720" y="15238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6705720" y="0"/>
            <a:ext cx="2438280" cy="1295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69360" y="31896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rea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358920" y="1076400"/>
            <a:ext cx="827532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cate an MFT entry for the new fi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itialize MFT entry with $STANDARD_INFORMA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ck MFT $Bitmap to find free clusters, using best-fit algorith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t corresponding $Bitmap bits to 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rite file content to clusters and update $DATA attribute with starting address of cluster run and run length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ad $INDEX_ROOT attribute for dir1 and determine where file1.txt should g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reate new index entry; resort index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ter steps in $LogFile (as each step is t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5760" y="65376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leting Fi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"/>
          <p:cNvSpPr/>
          <p:nvPr/>
        </p:nvSpPr>
        <p:spPr>
          <a:xfrm>
            <a:off x="404640" y="1574640"/>
            <a:ext cx="81597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volume boot sector to locate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first entry in MFT to determine layout of M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root directory (MFT entry 5), traverse index, and find dir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ad $INDEX_ROOT for dir1 entry and find file1.txt ent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filename entry from index; move other entries o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t MFT $Bitmap entries to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ter steps in $LogFile (as each step is take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NTFS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4460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general details of a fil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"/>
          <p:cNvSpPr/>
          <p:nvPr/>
        </p:nvSpPr>
        <p:spPr>
          <a:xfrm>
            <a:off x="208080" y="1179360"/>
            <a:ext cx="435276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le System Typ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olume Serial Number: 2A040574040543F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OEM Name: NT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Version: Windows X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ETADATA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: 32457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irst Cluster of MFT Mirror: 48685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MFT Entries: 1024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ize of Index Records: 4096 by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ange: 0 - 145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oot Directory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ctor Size: 5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uster Size: 20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Cluster Range: 0 - 9737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otal Sector Range: 0 - 38948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45600" y="16812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sstat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(continue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208080" y="1006560"/>
            <a:ext cx="84405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Def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TANDARD_INFORMATION (16)   Size: 48-7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ATTRIBUTE_LIST (32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FILE_NAME (48)   Size: 68-578   Flags: Resident,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OBJECT_ID (64)   Size: 0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SECURITY_DESCRIPTOR (8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NAME (96)   Size: 2-256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VOLUME_INFORMATION (112)   Size: 12-12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DATA (128)   Size: No Limit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ROOT (144)   Size: No Limit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INDEX_ALLOCATION (160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BITMAP (176)   Size: No Limit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REPARSE_POINT (192)   Size: 0-16384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_INFORMATION (208)   Size: 8-8   Flags: 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EA (224)   Size: 0-65536   Flag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$LOGGED_UTILITY_STREAM (256)   Size: 0-65536   Flags: Non-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18072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fls -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list file and directory nam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243000" y="1109520"/>
            <a:ext cx="865800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4-128-4:    $AttrD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2:    $BadCl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8-128-1:    $BadClus:$B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-128-1:    $Bi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7-128-1:    $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1-144-4:   $Ext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-128-1:    $Log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0-128-1:    $M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-128-1:    $MFTMir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28-8:    $Secure:$S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1:   $Secure:$SD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9-144-14:   $Secure:$S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0-128-1:   $Up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-128-3:    $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79-128-1: AUTOEXEC.B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52-128-3: boot.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5505-128-1: CONFIG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058-144-6: Documents and Set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39-128-1: hiberfil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13377-128-3:        hpfr5550.lo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0-128-1: IO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6681-128-1: MSDOS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20-128-3: NTDETECT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3016-128-3: ntl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/r 27-128-1:   pagefile.s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3457-144-6: Program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2728-144-1:        RECYC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7611-144-1: System Volum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28-144-6:   WINDO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/d 14519:      $Orphan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84320" y="86976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"/>
          <p:cNvSpPr/>
          <p:nvPr/>
        </p:nvSpPr>
        <p:spPr>
          <a:xfrm>
            <a:off x="173160" y="1973160"/>
            <a:ext cx="872784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Entry Header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ntry: 5505        Sequence: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File Sequence Number: 156340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inks: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$STANDARD_INFORMATION Attribute Val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Owner ID: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ecurity ID: 258  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6480" y="879120"/>
            <a:ext cx="844884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istat -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Display details of a meta-data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2"/>
          <p:cNvSpPr/>
          <p:nvPr/>
        </p:nvSpPr>
        <p:spPr>
          <a:xfrm>
            <a:off x="96840" y="1773360"/>
            <a:ext cx="8728200" cy="36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FILE_NAME Attribute Valu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lags: Arch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: CONFIG.S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arent MFT Entry: 5     Sequence: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llocated Size: 0       Actual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d: 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Modified: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FT Modified: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ccessed:       Mon Oct 21 16:56:44 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Attribut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STANDARD_INFORMATION (16-0)   Name: N/A   Resident   size: 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FILE_NAME (48-2)   Name: N/A   Resident   size: 8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: $DATA (128-1)   Name: N/A   Resident   size: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85760" y="191880"/>
            <a:ext cx="8448480" cy="69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Arial"/>
                <a:ea typeface="Arial"/>
              </a:rPr>
              <a:t>icat -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  <a:ea typeface="Arial"/>
              </a:rPr>
              <a:t>Output the contents of a file based on its inode num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185760" y="882720"/>
            <a:ext cx="63104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00: 4649 4c45 3000 0300 2497 2b02 0000 0000  FILE0...$.+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10: 0100 0100 3800 0100 9801 0000 0004 0000  ....8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20: 0000 0000 0000 0000 06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30: f000 0000 0000 0000 1000 0000 6000 0000  ............`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40: 0000 1800 0000 0000 4800 0000 1800 0000  ........H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5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6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70: 06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80: 0000 0000 0001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90: 0000 0000 0000 0000 3000 0000 6800 0000  ........0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a0: 0000 1800 0000 0300 4a00 0000 1800 0100  ........J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b0: 0500 0000 0000 0500 c08e 3200 e478 c201  ......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c0: c08e 3200 e478 c201 c08e 3200 e478 c201  ..2..x....2..x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d0: c08e 3200 e478 c201 0040 0000 0000 0000  ..2..x...@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e0: 0040 0000 0000 0000 0600 0000 0000 0000  .@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0f0: 0403 2400 4d00 4600 5400 0000 0000 0000  ..$.M.F.T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00: 8000 0000 4800 0000 0100 4000 0000 01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10: 0000 0000 0000 0000 5f1c 0000 0000 0000  ........_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20: 4000 0000 0000 0000 0000 e3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30: 00dc e200 0000 0000 00dc e2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40: 3260 1cda f304 0080 b000 0000 4800 0000  2`..........H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50: 0100 4000 0000 0500 0000 0000 0000 0000  ..@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60: 0000 0000 0000 0000 4000 0000 0000 0000  ........@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70: 0008 0000 0000 0000 1807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80: 1807 0000 0000 0000 3101 d9f3 0400 0000  ..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90: ffff ffff 0000 0000 006c 0000 0000 0000  .........l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a0: 006c 0000 0000 0000 3110 daf3 0400 0000  .l......1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b0: b000 0000 4800 0000 0100 4000 0000 0500  ....H.....@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c0: 0000 0000 0000 0000 00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d0: 4000 0000 0000 0000 0008 0000 0000 0000  @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e0: 0800 0000 0000 0000 0800 0000 0000 0000  .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00001f0: 3101 d9f3 0400 0000 ffff ffff 0000 f000  1..........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2/EXT3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trodu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2 and Ext3 are the default Linux file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Ext3 is the new version of Ext2 and adds journaling mechanism, but the basic structures are the sa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metadata is stored throughout the file system, and the metadata which is associated with a file are stored “near”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File System Lay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The whole area is divided into several block groups, and block groups contains several block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A block group is used to store file metadata and file cont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480" y="4548240"/>
          <a:ext cx="8915400" cy="1000080"/>
        </p:xfrm>
        <a:graphic>
          <a:graphicData uri="http://schemas.openxmlformats.org/drawingml/2006/table">
            <a:tbl>
              <a:tblPr/>
              <a:tblGrid>
                <a:gridCol w="892080"/>
                <a:gridCol w="890640"/>
                <a:gridCol w="892080"/>
                <a:gridCol w="890640"/>
                <a:gridCol w="892080"/>
                <a:gridCol w="892080"/>
                <a:gridCol w="890640"/>
                <a:gridCol w="892080"/>
                <a:gridCol w="890640"/>
                <a:gridCol w="89244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Super Bl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Group Descr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File 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Block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標楷體"/>
                        </a:rPr>
                        <a:t>Inode Bitm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文字方塊 6"/>
          <p:cNvSpPr/>
          <p:nvPr/>
        </p:nvSpPr>
        <p:spPr>
          <a:xfrm>
            <a:off x="185724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字方塊 8"/>
          <p:cNvSpPr/>
          <p:nvPr/>
        </p:nvSpPr>
        <p:spPr>
          <a:xfrm>
            <a:off x="7286760" y="40719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Block 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1876320" y="4475160"/>
            <a:ext cx="5391360" cy="11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Superblock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Ext2 superblock is located 1024 bytes from the start of the file system and is 1024 bytes in size. ( The first two sectors are used to store boot code if necessa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ack up copies are typically stored in the first file data block of each block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basic information of the file system, such as the block size, the total number of block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System: NTF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ster File table grows, never shrin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-tree algorithm used for file tr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-“balances” file system tree when tree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ating or deleting a file can cause entire tree to change and can overwrite nodes that were marked as free but still had information i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ts of attributes on files, can be confusing (e.g., which access time is the “official” one to us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st useful attributes are MAC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aster File Table (MF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ains information about all files and direc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ach has at least one entry in the 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lock Group Descriptor Tab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t contains a group descriptor data structure for every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group descriptor stores the address of block bitmap and inode bitmap for the block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Bitma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block bitmap manages the allocation status of the block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inode bitmap manages the allocation status of the inodes in the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3"/>
          <p:cNvSpPr/>
          <p:nvPr/>
        </p:nvSpPr>
        <p:spPr>
          <a:xfrm>
            <a:off x="25884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Super B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4"/>
          <p:cNvSpPr/>
          <p:nvPr/>
        </p:nvSpPr>
        <p:spPr>
          <a:xfrm>
            <a:off x="1258920" y="3429000"/>
            <a:ext cx="100008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Desc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5"/>
          <p:cNvSpPr/>
          <p:nvPr/>
        </p:nvSpPr>
        <p:spPr>
          <a:xfrm>
            <a:off x="4214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6"/>
          <p:cNvSpPr/>
          <p:nvPr/>
        </p:nvSpPr>
        <p:spPr>
          <a:xfrm>
            <a:off x="4214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7"/>
          <p:cNvSpPr/>
          <p:nvPr/>
        </p:nvSpPr>
        <p:spPr>
          <a:xfrm>
            <a:off x="4214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Block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字方塊 8"/>
          <p:cNvSpPr/>
          <p:nvPr/>
        </p:nvSpPr>
        <p:spPr>
          <a:xfrm>
            <a:off x="4579920" y="4786200"/>
            <a:ext cx="5461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標楷體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字方塊 9"/>
          <p:cNvSpPr/>
          <p:nvPr/>
        </p:nvSpPr>
        <p:spPr>
          <a:xfrm>
            <a:off x="3071880" y="2428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字方塊 10"/>
          <p:cNvSpPr/>
          <p:nvPr/>
        </p:nvSpPr>
        <p:spPr>
          <a:xfrm>
            <a:off x="3071880" y="38577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字方塊 11"/>
          <p:cNvSpPr/>
          <p:nvPr/>
        </p:nvSpPr>
        <p:spPr>
          <a:xfrm>
            <a:off x="3071880" y="59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標楷體"/>
              </a:rPr>
              <a:t>Group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1"/>
          <p:cNvSpPr/>
          <p:nvPr/>
        </p:nvSpPr>
        <p:spPr>
          <a:xfrm>
            <a:off x="5357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22"/>
          <p:cNvSpPr/>
          <p:nvPr/>
        </p:nvSpPr>
        <p:spPr>
          <a:xfrm>
            <a:off x="6500880" y="2071800"/>
            <a:ext cx="1143000" cy="12142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3"/>
          <p:cNvSpPr/>
          <p:nvPr/>
        </p:nvSpPr>
        <p:spPr>
          <a:xfrm>
            <a:off x="5357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4"/>
          <p:cNvSpPr/>
          <p:nvPr/>
        </p:nvSpPr>
        <p:spPr>
          <a:xfrm>
            <a:off x="6500880" y="350028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25"/>
          <p:cNvSpPr/>
          <p:nvPr/>
        </p:nvSpPr>
        <p:spPr>
          <a:xfrm>
            <a:off x="5357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6"/>
          <p:cNvSpPr/>
          <p:nvPr/>
        </p:nvSpPr>
        <p:spPr>
          <a:xfrm>
            <a:off x="6500880" y="5429160"/>
            <a:ext cx="1143000" cy="121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Straight Arrow Connector 27"/>
          <p:cNvCxnSpPr>
            <a:stCxn id="176" idx="3"/>
            <a:endCxn id="181" idx="1"/>
          </p:cNvCxnSpPr>
          <p:nvPr/>
        </p:nvCxnSpPr>
        <p:spPr>
          <a:xfrm flipV="1">
            <a:off x="2259000" y="2613960"/>
            <a:ext cx="813600" cy="1423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Straight Arrow Connector 29"/>
          <p:cNvCxnSpPr>
            <a:stCxn id="176" idx="3"/>
            <a:endCxn id="182" idx="1"/>
          </p:cNvCxnSpPr>
          <p:nvPr/>
        </p:nvCxnSpPr>
        <p:spPr>
          <a:xfrm>
            <a:off x="2259000" y="4037040"/>
            <a:ext cx="813600" cy="7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2" name="Straight Arrow Connector 31"/>
          <p:cNvCxnSpPr>
            <a:stCxn id="176" idx="3"/>
            <a:endCxn id="183" idx="1"/>
          </p:cNvCxnSpPr>
          <p:nvPr/>
        </p:nvCxnSpPr>
        <p:spPr>
          <a:xfrm>
            <a:off x="2259000" y="4037040"/>
            <a:ext cx="813600" cy="2078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table contains the inodes that describes the files in the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inode corresponds to one file, and it stores file’s primary metadata, such as file’s size, ownership, and temporal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node is typically 128 bytes in size and is allocated to each file and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ode Stru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399960" y="2208240"/>
            <a:ext cx="8374320" cy="432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45600" y="2125800"/>
            <a:ext cx="8448840" cy="32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non-directory file, Ext2 allocates an inode in the same block group as the parent dir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at group has no free inode or block, Ext2 uses a quadratic search (add powers of 2 to the current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quadratic search fails, Ext2 uses linear 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Metadata Concep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ode Alloca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a new inode is for a directory, Ext2 tries to place it in a group that has not been used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sing total number of free inodes and blocks in the superblock, Ext2 calculates the average free inodes and blocks per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xt2 searches each of the group and uses the first one whose free inodes and blocks are less than the aver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If the pervious search fails, the group with the smallest number of directories is u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80520" y="2072880"/>
            <a:ext cx="8458200" cy="44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n Ext2 is just like a regular file except it has a special type val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content of directories is a list of directory entry data structure, which describes file name and inode ad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length of directory entry varies from 1 to 255 by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fields in the directory entr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Name length: the length of the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Record length: the length of this directory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Indexing and Director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新細明體"/>
              </a:rPr>
              <a:t>Directory entry alloc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xt2 starts at the beginning of the directory and examines each directory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Calculate the actual record length and compare with the record length fiel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If they are different, Ext2 can insert the new directory entry at the end of the current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新細明體"/>
              </a:rPr>
              <a:t>Else, Ext2 appends the new entry to the end of the entry li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A file system journaling records updates to the file system can be recovered after a cra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re are two modes of journal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Only metadata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新細明體"/>
              </a:rPr>
              <a:t>All updates are record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 in Ext3 is done at block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The first block in the journal is journal superblock, and it contains the first logging data address and its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新細明體"/>
              </a:rPr>
              <a:t>Journal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45600" y="2087280"/>
            <a:ext cx="844884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Updates are done in transactions, and each transaction has a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Each transaction starts with a descriptor block that contains the transaction sequence number and a list of what blocks are being upda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Following the descriptor block are the updated blo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新細明體"/>
              </a:rPr>
              <a:t>When the updates have been written to disk, a commit block is written with the same sequence numb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TFS Fea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2"/>
          <p:cNvSpPr/>
          <p:nvPr/>
        </p:nvSpPr>
        <p:spPr>
          <a:xfrm>
            <a:off x="243000" y="2303640"/>
            <a:ext cx="86580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ansaction-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le and folder per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k qu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arse points (used to link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parse file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n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e data str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NY QUESTIONS ...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parse Fi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474840" y="2349360"/>
            <a:ext cx="80326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lusters that contain all zeros aren’t written to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alysis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 deleted sparse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If file system metadata is deleted or corrupted, a sparse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2"/>
          <p:cNvSpPr/>
          <p:nvPr/>
        </p:nvSpPr>
        <p:spPr>
          <a:xfrm>
            <a:off x="369720" y="2419200"/>
            <a:ext cx="8310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ta is broken into equal-sized compression units (e.g. 16 clus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 attempt is made to compress each u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arts of a file may be compressed while other parts aren’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File Compression Analysis Considera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2"/>
          <p:cNvSpPr/>
          <p:nvPr/>
        </p:nvSpPr>
        <p:spPr>
          <a:xfrm>
            <a:off x="277920" y="2441520"/>
            <a:ext cx="8542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ngle file can use different compression methods (e.g. none, sparse, or variant of LZ7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overy tools need to support de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deleted compressed file is hard to rec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file system metadata is deleted or corrupted, a compressed file might not be recover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45600" y="1279440"/>
            <a:ext cx="8448840" cy="69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crypting File System (EFS)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"/>
          <p:cNvSpPr/>
          <p:nvPr/>
        </p:nvSpPr>
        <p:spPr>
          <a:xfrm>
            <a:off x="324000" y="2511360"/>
            <a:ext cx="8485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s both symmetric key encryption (DESX) and asymmetric key encryption (RS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nerates a single file encryption key (FEK) and encrypts file with FEK using DES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tores FEK with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14:02:06Z</dcterms:created>
  <dc:creator>ML</dc:creator>
  <dc:description/>
  <dc:language>en-US</dc:language>
  <cp:lastModifiedBy>Ludwiniak, Robert</cp:lastModifiedBy>
  <cp:lastPrinted>2012-03-05T15:05:56Z</cp:lastPrinted>
  <dcterms:modified xsi:type="dcterms:W3CDTF">2012-03-12T16:47:34Z</dcterms:modified>
  <cp:revision>179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Edinburgh Napier Word document</vt:lpwstr>
  </property>
  <property fmtid="{D5CDD505-2E9C-101B-9397-08002B2CF9AE}" pid="3" name="Document Description">
    <vt:lpwstr>Branded powerpoint template for creating Edinburgh Napier University presentations.</vt:lpwstr>
  </property>
  <property fmtid="{D5CDD505-2E9C-101B-9397-08002B2CF9AE}" pid="4" name="DocumentKeywords">
    <vt:lpwstr>branded, presentations, template, powerpoint, ppt</vt:lpwstr>
  </property>
</Properties>
</file>