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1190-1387-4E20-9B30-B329DF231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1B97-B119-4CA5-9811-984D205F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5FA2-A2CF-416E-A3ED-4ECD9859E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FA42-D317-4F7A-8646-16E770ABF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477D9-75CC-464A-BECD-0E092EEA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293AD-5AB2-41D2-AE4F-40C31FD5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811FE-E20A-4615-BEEA-8B71BFFCC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FDDF-472C-4DE1-B22A-E013054E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561A-2930-4B26-91D3-8E6A604C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F38A0-69D3-42FC-8AB8-F4A9E316E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80E3-B24A-4793-9ECF-D74F63A56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DF07-363E-4FD4-88A1-5EA59C22D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5126-1218-48D1-8793-E848257F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0056-C0B9-46AD-A4A2-497CA25D9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ADAC8-0D85-4594-A80B-BAAC9E7CA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B526-40FA-4C0E-915B-DADFD4199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AAA3-EF19-4A35-8767-F99851BD8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6161-E535-4E58-8B96-ABD28DA4D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FDEC-2017-4728-A68F-5E6A02F10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966E-38DE-4DCC-96C7-536ABFAB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80E8-36E4-442B-97F4-6CD88D7C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93FD-6F48-450E-A390-E064DE904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9351-91B6-4B8F-B4A2-E48FCCBF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447C-847E-488D-B5D8-EB8C3ECA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8111-60A3-4D1B-9A9B-685830E0C4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97CB8-C36A-4EDE-9435-4DFCB53938F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uter Forens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TFS Fil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286000"/>
            <a:ext cx="8153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B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tes per secto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0 02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0200 = 512 deci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tors per cluster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 0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ed sectors 0x 00 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924680" y="2514600"/>
            <a:ext cx="45720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29200" y="3048120"/>
            <a:ext cx="358128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15: Media Descriptor:  F8 is hard drive, F0 is flop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28 Total number of sectors: F7AF4E0900000000 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00000094EAFF7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56,151,799 sectors, i.e. ~80G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05320" y="4876920"/>
            <a:ext cx="9144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5257800"/>
            <a:ext cx="3657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: Logical cluster number for MFT copy 1: cluster C07FE9 (File $MF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8: Logical cluster number for MFT copy 2: cluster 40029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5638680"/>
            <a:ext cx="4800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486400" y="5638680"/>
            <a:ext cx="3657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P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4811760"/>
            <a:ext cx="8955000" cy="20462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57200" y="1828800"/>
            <a:ext cx="84218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: Clusters per MFT record: F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8: Volume Serial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943600"/>
            <a:ext cx="9144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5943600"/>
            <a:ext cx="3657600" cy="68580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Master File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four entries are replicated, so that MFT can be repai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16 records are reserved for metadata files, their name begins with a dollar sign ($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Master File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file table $MF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file table mirror $MftMirr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 file $LogFil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me $Volume Attribute definitions $AttrDef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ot folder “.”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ster bitmap $Bitmap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ot sector $Boot (located at the beginning of parti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d cluster file $BadCl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file $Secu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case table $Upc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FS extension file $Extend, that is used for future us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Master File T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877000" cy="42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ries are 1KB e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tries cont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 Attrib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609480" y="4800600"/>
          <a:ext cx="815364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800600"/>
                    <a:ext cx="815364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Files (&lt;900B) are contained completely in the MFT e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4267080" y="1905120"/>
            <a:ext cx="42544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ders contain index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mall folders reside within the MFT reco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rger folders have an index structure to other data blocks. They use a B-tree structu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BR and GPT Dis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BR disks for 32b 86x-compatib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PT disks for 64b Itanium process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 MBR in order to maintain compat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BR has a single partition with a partition table entry of 0x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MFT record is addressed by a 48 bit MFT entry valu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entry has address 0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MFT entry has a 16 bit sequence number that is incremented when the entry is allocate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FT entry value and sequence number combined yield 64b file reference addres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TFS uses the file reference address to refer to MTF entri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he system crashes during allocation, then the sequence number describes whether the MTF entry belonged to the previous file or to the current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380880" y="5029200"/>
          <a:ext cx="8305920" cy="16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029200"/>
                    <a:ext cx="830592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FT entry attributes are loosely defin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attribute is preceded by the attribute head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ttribute header identif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attribu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3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ttribute header gives basic information about the attribut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sident attribute is stored in the MFT e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on-resident entry is stored in a cluster outside the MF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838080" y="4508640"/>
          <a:ext cx="762012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4508640"/>
                    <a:ext cx="762012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ident attributes are stored in MFT recor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sident attributes are stored in cluster run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ster run consists of consecutive clusters and are identified by starting cluster and run length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TFS distinguishes between Virtual Cluster Numbers and Logical Cluster Number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CN * (#sectors in cluster) = sector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CN 0 is first cluster in the volume (boot sector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N 0 refers to the first cluster in a cluster ru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23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FT entry header has a fixed stru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990720" y="3276720"/>
          <a:ext cx="7619760" cy="234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276720"/>
                    <a:ext cx="761976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0 - 0x03: Magic Number: "FILE"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4-0x05: Offset to the update sequenc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6-0x07: Number of entries in fixup arr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08-0x0f: $LogFile Sequence Number (LS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0-0x11: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2 - 0x13: Hard link cou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4-0x15: Offset to first attrib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6 - 0x17: Flags: 0x01: record in use, 0x02 directo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8-0x1b: Used size of MFT en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1c-0x1f: Allocated size of MFT entry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0-0x27: File reference to the base FILE rec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8-0x29: Next attribute I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a-0x2b: (XP) Align to 4B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2c-ox2f: (XP) Number of this MFT reco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x30-0x100: Attributes and fixup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 Structure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3962160"/>
            <a:ext cx="3657600" cy="110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1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irectory ent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971800" y="182880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4724280"/>
            <a:ext cx="73915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FT records start with “FILE”.  A bad cluster would start with “BAAD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139920" y="0"/>
            <a:ext cx="6004080" cy="6629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3962160"/>
            <a:ext cx="34290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685800" y="5105520"/>
            <a:ext cx="7848720" cy="16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4-5: Offset to update seq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6-7: Number of entries in fixup arr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8-f: Log file sequence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0-0x11: Sequence number: 59 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819520" y="182880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685800" y="5105520"/>
            <a:ext cx="784872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2-0x13: 2 – hard link 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4-0x15: Offset to first attribute: 0x 3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6-0x17: Flags: In use and contains a directory 0x 0001 | 0x 0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Recor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819520" y="1752480"/>
            <a:ext cx="6048360" cy="49244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04920" y="5105520"/>
            <a:ext cx="82296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 0x14 – 0x15: First attribute starts at 0x 38 00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0x 00 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List of possible attribut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$AttrDef entry of MFT, but defaul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10 STANDARD_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20$ATTRIBUTE_LIS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30$FILE_NAME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40 (NT) $VOLUME_VERSION (2K) $OBJECT_I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50 $SECURITY_DESCRIPTO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60$VOLUME_NA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70 $VOLUME_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80$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90$INDEX_ROO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A0$INDEX_ALLO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B0$BITMA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C0 (NT) $SYMBOLIC_LINK, (2K) $REPARSE_POIN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D0$EA_INFORM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E0$EA0xF0NT$PROPERTY_S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0x100 (2K) $LOGGED_UTILITY_STREA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Lay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s can be resident or non-reside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ginning is always the sam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0 Attribute Type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4 Length of 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8 non-resident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9 length of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a offset to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x0c fla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373392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 is of type 00 00 00 01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 is 0x 00 00 00 60 bytes lon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ribute is resident (0x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s are 0x 00 00 00 48 bytes long and start at offset 0x 00 18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2895480" y="1828800"/>
            <a:ext cx="601992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676520" y="2743200"/>
          <a:ext cx="6095880" cy="3921120"/>
        </p:xfrm>
        <a:graphic>
          <a:graphicData uri="http://schemas.openxmlformats.org/drawingml/2006/table">
            <a:tbl>
              <a:tblPr/>
              <a:tblGrid>
                <a:gridCol w="990360"/>
                <a:gridCol w="533520"/>
                <a:gridCol w="533160"/>
                <a:gridCol w="4038840"/>
              </a:tblGrid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Cre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0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Alteration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FT 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 Read 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OS File Permis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ximum number of versio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ion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2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lass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x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wner 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"/>
          <p:cNvSpPr/>
          <p:nvPr/>
        </p:nvSpPr>
        <p:spPr>
          <a:xfrm>
            <a:off x="1066680" y="198108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Info Attribut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s allows us to extract the file access times just as for 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values are in 100 nanoseconds since January 1, 1601 U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entry has attribute number 00 00 00 03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300000.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$FILE_NAME attrib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attribute length is 70 B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ents start at offset 18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743200" y="5105520"/>
            <a:ext cx="59436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ontent layout for the $FILE_NAME attribute i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00 File reference to parent direct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08 File crea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10 File modifica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20 File access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28 Allocated size of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30 Real size of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38 Flag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40 File name length in unicode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0x42 File name in unicod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Partition Layou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915400" cy="986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914400" y="3809880"/>
            <a:ext cx="7467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182600" y="3581280"/>
            <a:ext cx="77724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ot Rec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sic parameters of NTFS part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ter File Table (5%-10% of parti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able of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llection of attribu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tributes can be resident or in the File System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 System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ster File Table 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viously, this is a short file na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1828800" y="4648320"/>
            <a:ext cx="594360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FT Attribute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attribute is also a file name, but this time the complete ent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676520" y="4495680"/>
            <a:ext cx="599112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Vers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le system improv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k Layout chang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alphaModFix amt="67000"/>
          </a:blip>
          <a:stretch/>
        </p:blipFill>
        <p:spPr>
          <a:xfrm>
            <a:off x="1828800" y="228600"/>
            <a:ext cx="7102440" cy="64594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800600"/>
            <a:ext cx="6705720" cy="78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ice that the end of sector marker is 55 A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ou can look for this to find boot sectors for NTFS and 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00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mp Instruct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0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8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EM I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0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5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P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2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8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ded BPB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5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426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ootstrap Cod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0x1F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B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d of Sector Mark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33720" y="228600"/>
            <a:ext cx="6858000" cy="62355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SF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SF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1828800"/>
            <a:ext cx="84214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fields are not important, bu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B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tes per sector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0D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tors per Clu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a descriptor. F8: HD; F0: HD Flop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2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al secto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cluster number for the M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3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cal cluster number copy of the M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0     Clusters per MFT Recor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x48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 se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TFS Boot Secto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201780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inHex allows access to an interpreted NTFS Boot Secto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Access Tab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25772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0T22:41:17Z</dcterms:created>
  <dc:creator>Thomas Schwarz</dc:creator>
  <dc:description/>
  <dc:language>en-US</dc:language>
  <cp:lastModifiedBy>Thomas Schwarz</cp:lastModifiedBy>
  <dcterms:modified xsi:type="dcterms:W3CDTF">2006-05-01T19:23:00Z</dcterms:modified>
  <cp:revision>10</cp:revision>
  <dc:subject/>
  <dc:title>Computer Forensics</dc:title>
</cp:coreProperties>
</file>