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B99C-6C74-4622-99BC-72000A083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ABF3-51C5-4D46-9D41-ACC11A7D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32CC-E0DA-4E37-8F31-757DF4A2D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3929-29A8-439E-8964-0018076D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BB48-AB2E-4B4A-A31F-E3D80C37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77E-B95C-43C5-8748-2FFE1090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56E7-A208-401E-BE0B-7ADFA1EF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90D6-0460-4B8C-9BE1-62060656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FBA9-4982-425B-924B-3888599D6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FCD-BC6B-4D32-A148-9A26EFF7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08A1-188B-471A-B5BE-56F4FE0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B2EE-F89A-476F-B210-F5D047506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67DB-8DFD-4D44-BFBF-D0CC3F17A4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ntegriography.com/" TargetMode="External"/><Relationship Id="rId2" Type="http://schemas.openxmlformats.org/officeDocument/2006/relationships/hyperlink" Target="http://windowsir.blogspot.com/2010/02/mft-analysis.html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FT Analy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38862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integriography.com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indowsir.blogspot.com/2010/02/mft-analysis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alyze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ten by David Kovar, C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ython tool to parse $M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ses the attributes of each file in an NTFS fil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utput is really g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SV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t least 50 entries for each fi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by other appl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od - if the entry is val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ve - if the entry is acti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type - the type of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 Sequence - the sequence number for the recor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Record Numb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Folder Sequence Number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the standard information attribut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r up to four file name record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le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re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ification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cess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try da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Volume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Object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irth Domain I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utput Fields, cont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flags to show if each of the following attributes is present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ndard Information, Attribute List, Filename, Object ID, Volume Name, Volume Info, Data, Index Root, Index Allocation, Bitmap, Reparse Point, EA Information, EA, Property Set, Logged Utility 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tes/Log - Field used to log any significant events or observations relating to this recor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d-fn-shift - Populated if anomaly detection is turned on. Y/N. Y indicates that the FN create date is later than the STD create dat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c-zero - Populated if anomaly detection is turned on. Y/N. Y indicates that the STD create date's microsecond value is zero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told you so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10575","Good","Inactive","0","5422 - 5426","3","TRANSFERMGR.EXE-24D2A23F.pf","2009/12/27 18:35:57.625000","2009/12/28 05:32:01.390625","2009/12/27 18:35:57.625000","2009/12/28 05:32:01.390625","2009/12/27 18:35:57.625000","2009/12/27 18:35:57.625000","2009/12/27 18:35:57.625000","2009/12/27 18:35:57.625000","","","","","TRANSFERMGR.EXE-24D2A23F.pf","2009/12/27 18:35:57.625000","2009/12/27 18:35:57.625000","2009/12/27 18:35:57.625000","2009/12/27 18:35:57.625000","","","","","","","","","","","True","False","False","False","False","False","True","False","False","False","False","False","False","False","False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sag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age: analyzeMFT.py [options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ptions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h, --help show this help message and exi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f FILE, --file=FILE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Read MFT from FI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o FILE, --output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results to 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a, --anomaly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urn on anomaly det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b FILE, --bodyfile=FILE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rite MAC information to bodyfi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g, --gui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se GUI for file sele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d, --debug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Turn on debugging outpu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tract the MF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MF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y David Kova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griography.c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python c:\bin\analyzeMFT.py –f ntfs.mft –o mft.tx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9T22:31:27Z</dcterms:created>
  <dc:creator>Ackler</dc:creator>
  <dc:description/>
  <dc:language>en-US</dc:language>
  <cp:lastModifiedBy>Lynn</cp:lastModifiedBy>
  <dcterms:modified xsi:type="dcterms:W3CDTF">2012-10-23T17:43:34Z</dcterms:modified>
  <cp:revision>11</cp:revision>
  <dc:subject/>
  <dc:title>MFT Analysis</dc:title>
</cp:coreProperties>
</file>