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5D64A-3DEC-49F0-8BD8-456514BE2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F84DA-B4B1-44E7-B299-7D4F1C654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A2A0A-7836-4CBA-9EDC-CE8D489E2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B61FE-52F0-4E15-8C13-3D3B64CE6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535D0-F620-4546-9C30-7D2A8FE89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D36B9-F76A-4269-80B2-E463BA2E7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8285B-A173-4873-991B-103446078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59CC3-EE95-4F7B-B461-29E72DDA6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91B19-9360-4D2D-8C6D-DDF349441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D333C-B035-4D10-8AC3-640916E8D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C7E7D-2BAB-4FB1-B846-8A2B6B6B0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0AA20-7B72-4BAD-B62F-DE2DD018C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2B8CA-16A2-49A9-8192-50EA5ADB1A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63560" y="412920"/>
          <a:ext cx="7618320" cy="60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412920"/>
                    <a:ext cx="7618320" cy="60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611280" y="76500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81800" y="549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メニュー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105264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16720" y="141300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33"/>
                </a:solidFill>
                <a:latin typeface="Arial"/>
                <a:ea typeface="HGPｺﾞｼｯｸE"/>
              </a:rPr>
              <a:t>ツール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339920"/>
            <a:ext cx="4105080" cy="4897440"/>
          </a:xfrm>
          <a:custGeom>
            <a:avLst/>
            <a:gdLst>
              <a:gd name="textAreaLeft" fmla="*/ 56160 w 4105080"/>
              <a:gd name="textAreaRight" fmla="*/ 4048920 w 4105080"/>
              <a:gd name="textAreaTop" fmla="*/ 56160 h 4897440"/>
              <a:gd name="textAreaBottom" fmla="*/ 4841280 h 4897440"/>
            </a:gdLst>
            <a:ahLst/>
            <a:rect l="textAreaLeft" t="textAreaTop" r="textAreaRight" b="textAreaBottom"/>
            <a:pathLst>
              <a:path w="21600" h="25769">
                <a:moveTo>
                  <a:pt x="1015" y="0"/>
                </a:moveTo>
                <a:arcTo wR="1015" hR="1015" stAng="16200000" swAng="-5400000"/>
                <a:lnTo>
                  <a:pt x="0" y="24754"/>
                </a:lnTo>
                <a:arcTo wR="1015" hR="1015" stAng="10800000" swAng="-5400000"/>
                <a:lnTo>
                  <a:pt x="20585" y="25769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6021360"/>
            <a:ext cx="129564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9900"/>
                </a:solidFill>
                <a:latin typeface="Arial"/>
                <a:ea typeface="HGPｺﾞｼｯｸE"/>
              </a:rPr>
              <a:t>編集タ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27640" y="1341360"/>
            <a:ext cx="3889440" cy="4897440"/>
          </a:xfrm>
          <a:custGeom>
            <a:avLst/>
            <a:gdLst>
              <a:gd name="textAreaLeft" fmla="*/ 53280 w 3889440"/>
              <a:gd name="textAreaRight" fmla="*/ 3836160 w 3889440"/>
              <a:gd name="textAreaTop" fmla="*/ 53280 h 4897440"/>
              <a:gd name="textAreaBottom" fmla="*/ 4844160 h 4897440"/>
            </a:gdLst>
            <a:ahLst/>
            <a:rect l="textAreaLeft" t="textAreaTop" r="textAreaRight" b="textAreaBottom"/>
            <a:pathLst>
              <a:path w="21600" h="27197">
                <a:moveTo>
                  <a:pt x="1015" y="0"/>
                </a:moveTo>
                <a:arcTo wR="1015" hR="1015" stAng="16200000" swAng="-5400000"/>
                <a:lnTo>
                  <a:pt x="0" y="26182"/>
                </a:lnTo>
                <a:arcTo wR="1015" hR="1015" stAng="10800000" swAng="-5400000"/>
                <a:lnTo>
                  <a:pt x="20585" y="27197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81800" y="6021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譜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5581800" y="2708280"/>
            <a:ext cx="358560" cy="4334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24360" y="3068640"/>
            <a:ext cx="79236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33cc"/>
                </a:solidFill>
                <a:latin typeface="Arial"/>
                <a:ea typeface="HGPｺﾞｼｯｸE"/>
              </a:rPr>
              <a:t>チッ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286000" y="749160"/>
          <a:ext cx="4572000" cy="535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749160"/>
                    <a:ext cx="4572000" cy="53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211640" y="404640"/>
            <a:ext cx="93492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4500000" y="-963720"/>
            <a:ext cx="358920" cy="3816360"/>
          </a:xfrm>
          <a:custGeom>
            <a:avLst/>
            <a:gdLst>
              <a:gd name="textAreaLeft" fmla="*/ 229320 w 358920"/>
              <a:gd name="textAreaRight" fmla="*/ 359280 w 35892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1700280"/>
            <a:ext cx="1079640" cy="503280"/>
          </a:xfrm>
          <a:prstGeom prst="wedgeRectCallout">
            <a:avLst>
              <a:gd name="adj1" fmla="val -28972"/>
              <a:gd name="adj2" fmla="val -9826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英字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19640" y="2421000"/>
            <a:ext cx="1079280" cy="503280"/>
          </a:xfrm>
          <a:prstGeom prst="wedgeRectCallout">
            <a:avLst>
              <a:gd name="adj1" fmla="val 39560"/>
              <a:gd name="adj2" fmla="val -108990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薄い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48360" y="2781360"/>
            <a:ext cx="1079280" cy="503280"/>
          </a:xfrm>
          <a:prstGeom prst="wedgeRectCallout">
            <a:avLst>
              <a:gd name="adj1" fmla="val -45148"/>
              <a:gd name="adj2" fmla="val -90379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拍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56000" y="3500280"/>
            <a:ext cx="1079280" cy="503280"/>
          </a:xfrm>
          <a:prstGeom prst="wedgeRectCallout">
            <a:avLst>
              <a:gd name="adj1" fmla="val 34263"/>
              <a:gd name="adj2" fmla="val -110884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太い白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76720" y="4797360"/>
            <a:ext cx="1079640" cy="503280"/>
          </a:xfrm>
          <a:prstGeom prst="wedgeRectCallout">
            <a:avLst>
              <a:gd name="adj1" fmla="val -39851"/>
              <a:gd name="adj2" fmla="val -8627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番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数字３桁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2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新規作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開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2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589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9716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619280" y="3573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63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貼り付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19564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76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コピ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656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27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削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84360" y="2565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46040" y="3270240"/>
          <a:ext cx="825336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270240"/>
                    <a:ext cx="825336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48436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元に戻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91636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71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やり直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184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59280" y="3860640"/>
            <a:ext cx="100800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チップパレッ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56220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縦方向倍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1020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14836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35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選択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584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編集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15636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2000" y="2276640"/>
            <a:ext cx="100800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最初から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167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72360" y="4294080"/>
            <a:ext cx="1008000" cy="43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7564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61080" y="2637000"/>
            <a:ext cx="863640" cy="43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BGM</a:t>
            </a: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のみ再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9128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214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停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4534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9636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速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26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468360" y="1773360"/>
          <a:ext cx="2832120" cy="139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73360"/>
                    <a:ext cx="283212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476360" y="2349360"/>
            <a:ext cx="792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716360" y="1197000"/>
          <a:ext cx="3365640" cy="453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197000"/>
                    <a:ext cx="336564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5580000" y="3933720"/>
            <a:ext cx="2448000" cy="1079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476360" y="1773360"/>
          <a:ext cx="2184480" cy="34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773360"/>
                    <a:ext cx="2184480" cy="34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2627280" y="836640"/>
            <a:ext cx="9349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パタ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2376000" y="1089000"/>
            <a:ext cx="358560" cy="1152360"/>
          </a:xfrm>
          <a:custGeom>
            <a:avLst/>
            <a:gdLst>
              <a:gd name="textAreaLeft" fmla="*/ 228960 w 358560"/>
              <a:gd name="textAreaRight" fmla="*/ 358560 w 35856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3228"/>
                </a:lnTo>
                <a:cubicBezTo>
                  <a:pt x="10800" y="4128"/>
                  <a:pt x="5400" y="5028"/>
                  <a:pt x="0" y="5028"/>
                </a:cubicBezTo>
                <a:cubicBezTo>
                  <a:pt x="5400" y="5028"/>
                  <a:pt x="10800" y="5928"/>
                  <a:pt x="10800" y="682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76360" y="836640"/>
            <a:ext cx="936720" cy="503280"/>
          </a:xfrm>
          <a:prstGeom prst="wedgeRectCallout">
            <a:avLst>
              <a:gd name="adj1" fmla="val -22203"/>
              <a:gd name="adj2" fmla="val 13801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ボイ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3:16:56Z</dcterms:created>
  <dc:creator>Kenji</dc:creator>
  <dc:description/>
  <dc:language>en-US</dc:language>
  <cp:lastModifiedBy>Kenji</cp:lastModifiedBy>
  <dcterms:modified xsi:type="dcterms:W3CDTF">2007-05-26T10:49:40Z</dcterms:modified>
  <cp:revision>8</cp:revision>
  <dc:subject/>
  <dc:title>スライド 1</dc:title>
</cp:coreProperties>
</file>