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76354-8AAA-4A18-B640-F75AC0EA5CC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F0FAD-FDE6-49E8-A807-B2D08AB7362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3DC8-DA67-477E-A86C-D597FD7FA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8961-EDDB-4D07-B0DA-E3A91B56C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6B3E-12CD-4C9C-A577-D486D2B9B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3914-5DB4-442E-A765-C88572AE3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18B2-40D6-4EA5-A681-A0B3E0117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9DA1-E36A-4A8D-9D70-D4892B1C9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043F-6B47-4AF0-A9AA-5E620418C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F18F-F64B-4125-9652-5A9BC62B0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723F-632D-4CD2-AC4B-1579DBAFE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C30E-CB57-400F-B33E-5B267D77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61FB-4B25-4A86-B374-47FFC695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FEE1-9D81-4964-A718-3B66ED84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26EFA-FABE-4218-B0FE-F23D217F2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2-23T10:28:37Z</dcterms:modified>
  <cp:revision>49</cp:revision>
  <dc:subject/>
  <dc:title>スライド 1</dc:title>
</cp:coreProperties>
</file>