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66003"/>
        <c:axId val="39275340"/>
      </c:barChart>
      <c:catAx>
        <c:axId val="62666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75340"/>
        <c:crosses val="autoZero"/>
        <c:auto val="1"/>
        <c:lblAlgn val="ctr"/>
        <c:lblOffset val="100"/>
        <c:noMultiLvlLbl val="0"/>
      </c:catAx>
      <c:valAx>
        <c:axId val="39275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66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DA3-3527-49C4-9FCB-6BA6D2DC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21B-ED0F-4C0A-A765-02F9E005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FB4-3733-4354-8187-898992F9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583B-4B60-4048-A0CF-BB5A208F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FD40-FF0E-4333-87E9-02EEC2FE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EB7-1BE3-4559-84E0-3D0D98CB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CF62-A61E-4D7B-8D27-FBB0577C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F9A-9B3D-47AC-9076-575D1E4C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385-BC70-4CD3-B75C-564788A7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9D4-A5B3-47CF-B0B0-8D9AE3AB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41E-0A40-4420-878D-03E4A26A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872-FD42-4708-8D1A-F5A02295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6EEA2-3101-4924-ADDA-020240AA58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