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53857"/>
        <c:axId val="16474530"/>
      </c:barChart>
      <c:catAx>
        <c:axId val="70853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74530"/>
        <c:crosses val="autoZero"/>
        <c:auto val="1"/>
        <c:lblAlgn val="ctr"/>
        <c:lblOffset val="100"/>
        <c:noMultiLvlLbl val="0"/>
      </c:catAx>
      <c:valAx>
        <c:axId val="16474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53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E1D-A0E1-468C-957B-3825ABA3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362-C6E1-4083-AE66-AEEE6885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143-F14A-466E-A13E-9DA6A998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DB3-1EA3-454A-8B64-826678CF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B16-7532-47AD-9BA2-F54BFCAB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E01-208E-4375-87F1-75A761E9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BF1-B343-4CF4-9F8C-AE8F2184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B10-0962-4066-836A-194A5BFB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650-61E5-4118-A4B3-21A36BA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ABC-9A21-4A7D-9208-C7301A55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EE4-1235-4BE9-AD58-55D421C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00A-7366-4E4F-9818-50F39B3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2B55B-2F12-4241-AAF5-F125443DD9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