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43278"/>
        <c:axId val="59222782"/>
      </c:barChart>
      <c:catAx>
        <c:axId val="76943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22782"/>
        <c:crosses val="autoZero"/>
        <c:auto val="1"/>
        <c:lblAlgn val="ctr"/>
        <c:lblOffset val="100"/>
        <c:noMultiLvlLbl val="0"/>
      </c:catAx>
      <c:valAx>
        <c:axId val="59222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43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2CE-34B0-4313-B4E2-275B3350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9B9-D0B9-4D90-9A9F-16FBA7A8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EEC-EEB6-47CA-A05D-F5DCEBD8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84F-897D-464D-A6F3-C562522D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D73-8D8B-48D9-BCC1-4413A8FD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D49-D78B-4D5C-8D83-4C1CB8A5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6EB-21CF-4E1F-9AF4-5E915461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C01-041C-4064-96F5-EB310C0E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709-329E-4F0B-A780-28926C89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DC7-0091-4EB5-A567-24EA0077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7D3-E8D3-4510-AC95-99C92730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9DE-CD49-4171-85B8-0A80CAEE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86D72-0D3D-4A1D-8512-75AC9043AA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