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01560"/>
        <c:axId val="65018255"/>
      </c:barChart>
      <c:catAx>
        <c:axId val="50301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18255"/>
        <c:crosses val="autoZero"/>
        <c:auto val="1"/>
        <c:lblAlgn val="ctr"/>
        <c:lblOffset val="100"/>
        <c:noMultiLvlLbl val="0"/>
      </c:catAx>
      <c:valAx>
        <c:axId val="65018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01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058-BEB6-4CC1-A9BB-523E350C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47F-96FE-4A4E-88F9-17B31F1F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057-23DB-41B9-B559-D75D2283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5D7-7F0C-4A8B-B7C3-2ADC66CC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F05-33A3-4825-98B2-3E544FF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954-E58E-4CCF-98C0-472765FF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88D-D56C-4467-8017-290B42DD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42B-E1D6-4AF2-A22F-688CA8E1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C67-09DD-41D2-92FA-4BC9A8E5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04B-4FD3-482A-9EB0-7DDD2B3A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CAE-8D6B-4476-9060-57C47F55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63C-4BAC-429B-BB7D-89174EF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A24EB-65F4-4421-9E10-C3935985D1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