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7275"/>
        <c:axId val="19828605"/>
      </c:barChart>
      <c:catAx>
        <c:axId val="2817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28605"/>
        <c:crosses val="autoZero"/>
        <c:auto val="1"/>
        <c:lblAlgn val="ctr"/>
        <c:lblOffset val="100"/>
        <c:noMultiLvlLbl val="0"/>
      </c:catAx>
      <c:valAx>
        <c:axId val="19828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7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E28-781A-4687-B500-177FA7B0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505-0338-4357-AB07-2C9CF4EA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AA6-17AD-40F5-BEE3-FAB8351B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DC2-08AC-41BE-BB07-66BF35F7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ADE-2B45-4F87-858E-4E7F385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528-2E6C-49AF-8655-DD8A65E1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AB6-7834-43AB-BCBD-71AF0626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476-0FE3-42BF-B3C2-F71A1CB4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8F9-6CC1-4AC5-A59F-582B8BA5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A14-493B-4732-BC48-E9148FB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BEB-662C-4882-BB02-BF68A0B1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57D-71AE-422C-BC0D-A7C10BB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CEA81-D498-4B4A-AE81-65601D628C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